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BDA-F92A-4F1A-B822-638F4C08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93A-6243-4F6F-9A43-00520DA2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7F1-DF98-4DC1-9A0E-9CA19487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04E-3D11-4FBC-B35A-0C0F1F99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E8ED-0086-4F5C-B402-99152305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2DC1-9610-46D0-97AC-708CEAAF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921F-5D0F-4CF1-B533-46F18D23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9482-4DCB-422C-B492-D6EA4F03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4FD5-D514-47FF-A821-701177BD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C166-AED4-4012-A0FB-54A7D070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2175-E146-48A1-90BD-60BAC56B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1E6-8DDA-4EB4-96EA-E31E4649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BF6B-7B7C-4C04-949F-0603098A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7C7D-1E26-4B6A-AD6D-ABF2976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52D9-1BC0-441B-AE21-3DE388C0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81F5-3133-49C3-BF38-60859C1B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FA6E-026A-4439-BED1-32204458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C07-F364-44D1-B0EB-B3094B1C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71B-6BF8-435A-B956-43D1E175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CDC-BE77-4038-AE88-78AA19F2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A5A-C573-4420-87F3-305B4C03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B4F-9555-436A-951D-81DDCAAF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227-CDAC-4CEE-B442-FC6C56F3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909-E435-447E-B6D1-F6B7A491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5486-3FE2-4DEF-A99C-0D84A9A44DE4}" type="slidenum"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7C72-D91D-4382-AD9A-3015D6D81293}" type="slidenum">
              <a:rPr b="0" lang="pt-B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2f5897"/>
                </a:solidFill>
                <a:latin typeface="Palatino Linotype"/>
              </a:rPr>
              <a:t>(Auto)biografia</a:t>
            </a:r>
            <a:br>
              <a:rPr sz="3200"/>
            </a:br>
            <a:r>
              <a:rPr b="0" lang="pt-BR" sz="1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pt-BR" sz="2800" spc="-1" strike="noStrike">
                <a:solidFill>
                  <a:srgbClr val="2f5897"/>
                </a:solidFill>
                <a:latin typeface="Palatino Linotype"/>
              </a:rPr>
              <a:t>e a diversidade do aluno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Retângulo 6"/>
          <p:cNvSpPr/>
          <p:nvPr/>
        </p:nvSpPr>
        <p:spPr>
          <a:xfrm>
            <a:off x="179280" y="5084640"/>
            <a:ext cx="8280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Calibri"/>
              </a:rPr>
              <a:t>Flavio Jose Vargas Pinheiro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  <a:ea typeface="Calibri"/>
              </a:rPr>
              <a:t>fargas@fargas.com.b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DIÁRIOS E 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s memórias são válidas principalmente porque elas conseguem desvelar a força dos sentimentos que emanam durante o aprendizado. Segundo Camerom o estudo de idiomas não envolve apenas questões práticas, do tipo "como se fala X em inglês?", mas também questões subjetivas, como "quem eu sou/eu me torno quando falo um novo idioma?"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9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utros focos de interesse no uso de memoriais são, por exemplo: estratégias de aprendizagem, motivação, autonomia  e auto-aprendizagem, pais com dois idiomas e estrangeiros no papel de aluno e professor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0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Deterioração da memória X Conhecimento íntimo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79365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1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PESQUISAS BIOGRÁF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 grande limitação da pesquisa autobiográfica é a dependência da capacidade do pesquisador-sujeito de escrever um relato publicável de suas experiências. Ou seja, das suas habilidades de escritor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Pesquisas biográficas, por outro lado, permitem explorar uma gama mais ampla de sujeito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2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EXEMPLO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Wez: fitas de áudio e bloco de notas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Karol: relatos de imigração e relacionamento afetiv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3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SUBJETIVIDA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Estudos focados mais nos processos subjetivos do que na proficiência do idioma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4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RESCIMENTO DAS PESQUISAS AUTOBIOGRÁF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Mas o que, afinal, é que aproxima estes estudos e o que os diferencia de outros?  O fato de serem estudos qualitativos e a sua conexão com outros trabalhos, de outras áreas, que também se baseiam em processos narrativ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5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UM NOVO OLHA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Também é possível notar, mais recentemente, uma mudança de foco, do estudante como um ser abstrato (como visto nos estudos mais antigos) para o padrão atual, onde se leva em conta que os estudantes têm uma história pessoal e experiências (de aprendizagem) para contar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6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BIBLIOGRAF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BENSON, Phil. </a:t>
            </a:r>
            <a:r>
              <a:rPr b="1" lang="pt-BR" sz="2400" spc="-1" strike="noStrike">
                <a:solidFill>
                  <a:srgbClr val="7f7f7f"/>
                </a:solidFill>
                <a:latin typeface="Century Gothic"/>
              </a:rPr>
              <a:t>(Auto)biography and learner diversity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. In</a:t>
            </a:r>
            <a:r>
              <a:rPr b="0" i="1" lang="pt-BR" sz="2400" spc="-1" strike="noStrike">
                <a:solidFill>
                  <a:srgbClr val="7f7f7f"/>
                </a:solidFill>
                <a:latin typeface="Century Gothic"/>
              </a:rPr>
              <a:t> BENSON, Phil; 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NUNAN, David</a:t>
            </a:r>
            <a:r>
              <a:rPr b="0" i="1" lang="pt-BR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1" lang="pt-BR" sz="2400" spc="-1" strike="noStrike">
                <a:solidFill>
                  <a:srgbClr val="7f7f7f"/>
                </a:solidFill>
                <a:latin typeface="Century Gothic"/>
              </a:rPr>
              <a:t>Learners's Stories. Difference and Diversity in Language Learning</a:t>
            </a: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. 1. ed. London: Cambridge University Press, 2005. p. 4, 12-18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17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71280" y="1092240"/>
            <a:ext cx="7561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(AUTO)BIOGRAFI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termo (auto)biografia usado neste capítulo se refere a uma ampla abordagem de pesquisas que focam na análise e descrição de fenômenos sociais, da maneira como foram vivenciados dentro do contexto da vida dos indivíduos. Esta abordagem tem sido largamente discutida e usada no campo da educação, principalmente como método de investigação de vida de professores e alun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termo (auto)biografia, neste artigo, se refere tanto a biografias quanto autobiografia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1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TERMINOLOG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utros termos muito usados: pesquisa narrativa, estudo narrativo de vidas,auto-etnografia, experiência pessoal e história de vida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2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AUTOBIOGRAFIA E BIOGRAF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autor usa o termo (auto)biografia para indicar que, no contexto das pesquisas sobre o aprendizado de um segundo idioma, as informações são, via de regra, relatos na primeira pessoa, de experiências vivenciadas, e que são analisadas ou pelo próprio sujeito da pesquisa (autobiograficamente) ou por outro pesquisador (biograficamente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3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RÍTIC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s críticos da metodologia tradicional de pesquisa, essencialmente quantitativa e focada em resultados, argumentam em favor de uma ênfase maior em pesquisas qualitativas e também em favor de um foco maior na dimensão social  e afetiva do processo de aprendizagem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4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MEMÓRI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Em resumo: as narrativas não deixam de ser um instrumento de coleta de informação e têm a memória como elemento básico em pesquisas desta natureza. A memória e os instrumentos de análise confluem para um melhor entendimento da realidade pesquisada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5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PESQUISA AUTOBIOGRÁFIC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No contexto do estudo de um segundo idioma, o uso da autobiografia apareceu primeiro na forma de diários introspectiv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A força dos diários repousa mais sobre o fato de que os pesquisadores se tornarem aptos a explorar fatores como afetividade, estratégias de aprendizado e a percepção do próprio aluno sobre seu o processo de aprendizagem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6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CONFIABILIDADE, CREDIBILIDADE, VALIDA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O uso de diários introspectivos parece agregar confiabilidade, credibilidade e dar validade às pesquisas nas quais são utilizados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7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71280" y="1052640"/>
            <a:ext cx="75610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Gothic"/>
              </a:rPr>
              <a:t>DIÁRIOS E MEMORIA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Um dos princípios que norteiam o uso dos diários introspectivos determina que ele deve ser escrito concomitantemente ao aprendizad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Consequência disso é que o pesquisador deve decidir com antecedência que irá fazer uso deste recurso, e fazê-lo em um período de tempo relativamente pequeno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Century Gothic"/>
              </a:rPr>
              <a:t>Com isso a atenção dos pesquisadores voltou-se para os memoriais – mais extensos e mais autêntico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7943760" y="6093000"/>
            <a:ext cx="69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entury Gothic"/>
              </a:rPr>
              <a:t>08/17</a:t>
            </a:r>
            <a:endParaRPr b="0" lang="en-US" sz="15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16:54:36Z</dcterms:created>
  <dc:creator>Rose</dc:creator>
  <dc:description/>
  <dc:language>en-US</dc:language>
  <cp:lastModifiedBy>Flavio Fargas</cp:lastModifiedBy>
  <dcterms:modified xsi:type="dcterms:W3CDTF">2015-05-15T00:38:02Z</dcterms:modified>
  <cp:revision>30</cp:revision>
  <dc:subject/>
  <dc:title>Apresentação do PowerPoint</dc:title>
</cp:coreProperties>
</file>