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21D7-6E89-4008-B745-7C18737B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DB74-2E0A-4D14-B984-385095FD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D256-43F3-473C-AE43-29AE1E39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5E93-BB8E-4C02-A9DD-1D051392D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1E3B-78F6-45C7-8196-63C2FA24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B4DD-192F-48A1-96F4-32B07E64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B7B9-D0C3-4147-8B0D-27196D81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995E-B4F5-4C92-BCDD-D258C82C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BC0F-6DA5-4A35-88DF-429A6B0F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3479-997E-489D-AA82-7D91AAEC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0706-0124-4520-9765-AC41C893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7AC8-4B62-4C80-A27B-633C47BD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6E76-81B7-4BEC-AFE4-A4470060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70BD-CBFA-49D7-AEE9-77BEEBF7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CE5B-F78E-43C3-ADBA-D0DC70D5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9246-0C1B-4AE5-9333-10A1C07C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F1D0-7834-4815-A5F6-D9F7A30A6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BFFB-17BA-4896-98C8-CE136FE8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4D99-82DB-419E-B2F0-9334B018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749B-C86C-462E-BFE4-FD5174DD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49BE-B042-4968-8A6B-3609E632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F98D-7982-444F-9B20-B0A9868D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6B42-4CDB-4F44-A577-A21FA59C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867F-9FEE-4DEC-9C62-12722DB3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8544-E921-4200-8856-089D86692D17}" type="slidenum">
              <a:rPr b="0" lang="pt-B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6882-218B-440B-A6F5-CAEDB19EA9E0}" type="slidenum">
              <a:rPr b="0" lang="pt-B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10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2f5897"/>
                </a:solidFill>
                <a:latin typeface="Palatino Linotype"/>
              </a:rPr>
              <a:t>(Auto)biografia</a:t>
            </a:r>
            <a:br>
              <a:rPr sz="3200"/>
            </a:br>
            <a:r>
              <a:rPr b="0" lang="pt-BR" sz="18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pt-BR" sz="2800" spc="-1" strike="noStrike">
                <a:solidFill>
                  <a:srgbClr val="2f5897"/>
                </a:solidFill>
                <a:latin typeface="Palatino Linotype"/>
              </a:rPr>
              <a:t>e a diversidade do aluno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Retângulo 6"/>
          <p:cNvSpPr/>
          <p:nvPr/>
        </p:nvSpPr>
        <p:spPr>
          <a:xfrm>
            <a:off x="179280" y="5084640"/>
            <a:ext cx="8280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Calibri"/>
              </a:rPr>
              <a:t>Flavio Jose Vargas Pinheiro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Calibri"/>
              </a:rPr>
              <a:t>fargas@fargas.com.br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DIÁRIOS E MEMORIAI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As memórias são válidas principalmente porque elas conseguem desvelar a força dos sentimentos que emanam durante o aprendizado. Segundo Camerom o estudo de idiomas não envolve apenas questões práticas, do tipo "como se fala X em inglês?", mas também questões subjetivas, como "quem eu sou/eu me torno quando falo um novo idioma?"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09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MEMORIAI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Outros focos de interesse no uso de memoriais são, por exemplo: estratégias de aprendizagem, motivação, autonomia  e auto-aprendizagem, pais com dois idiomas e estrangeiros no papel de aluno e professor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10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MEMORIAI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Deterioração da memória X Conhecimento íntimo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79365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11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PESQUISAS BIOGRÁFICA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A grande limitação da pesquisa autobiográfica é a dependência da capacidade do pesquisador-sujeito de escrever um relato publicável de suas experiências. Ou seja, das suas habilidades de escritor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Pesquisas biográficas, por outro lado, permitem explorar uma gama mais ampla de sujeitos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12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EXEMPLO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Wez: fitas de áudio e bloco de notas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Karol: relatos de imigração e relacionamento afetivo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13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SUBJETIVIDAD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Estudos focados mais nos processos subjetivos do que na proficiência do idioma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14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CRESCIMENTO DAS PESQUISAS AUTOBIOGRÁFICA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Mas o que, afinal, é que aproxima estes estudos e o que os diferencia de outros?  O fato de serem estudos qualitativos e a sua conexão com outros trabalhos, de outras áreas, que também se baseiam em processos narrativos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15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UM NOVO OLHAR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Também é possível notar, mais recentemente, uma mudança de foco, do estudante como um ser abstrato (como visto nos estudos mais antigos) para o padrão atual, onde se leva em conta que os estudantes têm uma história pessoal e experiências (de aprendizagem) para contar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16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BIBLIOGRAFI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BENSON, Phil. </a:t>
            </a:r>
            <a:r>
              <a:rPr b="1" lang="pt-BR" sz="2400" spc="-1" strike="noStrike">
                <a:solidFill>
                  <a:srgbClr val="7f7f7f"/>
                </a:solidFill>
                <a:latin typeface="Century Gothic"/>
              </a:rPr>
              <a:t>(Auto)biography and learner diversity</a:t>
            </a: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. In</a:t>
            </a:r>
            <a:r>
              <a:rPr b="0" i="1" lang="pt-BR" sz="2400" spc="-1" strike="noStrike">
                <a:solidFill>
                  <a:srgbClr val="7f7f7f"/>
                </a:solidFill>
                <a:latin typeface="Century Gothic"/>
              </a:rPr>
              <a:t> BENSON, Phil; </a:t>
            </a: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NUNAN, David</a:t>
            </a:r>
            <a:r>
              <a:rPr b="0" i="1" lang="pt-BR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1" lang="pt-BR" sz="2400" spc="-1" strike="noStrike">
                <a:solidFill>
                  <a:srgbClr val="7f7f7f"/>
                </a:solidFill>
                <a:latin typeface="Century Gothic"/>
              </a:rPr>
              <a:t>Learners's Stories. Difference and Diversity in Language Learning</a:t>
            </a: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. 1. ed. London: Cambridge University Press, 2005. p. 4, 12-18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17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971280" y="1092240"/>
            <a:ext cx="7561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(AUTO)BIOGRAFIA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O termo (auto)biografia usado neste capítulo se refere a uma ampla abordagem de pesquisas que focam na análise e descrição de fenômenos sociais, da maneira como foram vivenciados dentro do contexto da vida dos indivíduos. Esta abordagem tem sido largamente discutida e usada no campo da educação, principalmente como método de investigação de vida de professores e alunos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O termo (auto)biografia, neste artigo, se refere tanto a biografias quanto autobiografias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01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TERMINOLOGI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Outros termos muito usados: pesquisa narrativa, estudo narrativo de vidas,auto-etnografia, experiência pessoal e história de vida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02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AUTOBIOGRAFIA E BIOGRAFI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O autor usa o termo (auto)biografia para indicar que, no contexto das pesquisas sobre o aprendizado de um segundo idioma, as informações são, via de regra, relatos na primeira pessoa, de experiências vivenciadas, e que são analisadas ou pelo próprio sujeito da pesquisa (autobiograficamente) ou por outro pesquisador (biograficamente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03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CRÍTICA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Os críticos da metodologia tradicional de pesquisa, essencialmente quantitativa e focada em resultados, argumentam em favor de uma ênfase maior em pesquisas qualitativas e também em favor de um foco maior na dimensão social  e afetiva do processo de aprendizagem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04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MEMÓRI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Em resumo: as narrativas não deixam de ser um instrumento de coleta de informação e têm a memória como elemento básico em pesquisas desta natureza. A memória e os instrumentos de análise confluem para um melhor entendimento da realidade pesquisada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05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PESQUISA AUTOBIOGRÁFIC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No contexto do estudo de um segundo idioma, o uso da autobiografia apareceu primeiro na forma de diários introspectivos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A força dos diários repousa mais sobre o fato de que os pesquisadores se tornarem aptos a explorar fatores como afetividade, estratégias de aprendizado e a percepção do próprio aluno sobre seu o processo de aprendizagem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06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CONFIABILIDADE, CREDIBILIDADE, VALIDAD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O uso de diários introspectivos parece agregar confiabilidade, credibilidade e dar validade às pesquisas nas quais são utilizados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07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DIÁRIOS E MEMORIAI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Um dos princípios que norteiam o uso dos diários introspectivos determina que ele deve ser escrito concomitantemente ao aprendizado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Consequência disso é que o pesquisador deve decidir com antecedência que irá fazer uso deste recurso, e fazê-lo em um período de tempo relativamente pequeno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Com isso a atenção dos pesquisadores voltou-se para os memoriais – mais extensos e mais autênticos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08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3T16:54:36Z</dcterms:created>
  <dc:creator>Rose</dc:creator>
  <dc:description/>
  <dc:language>en-US</dc:language>
  <cp:lastModifiedBy>Flavio Fargas</cp:lastModifiedBy>
  <dcterms:modified xsi:type="dcterms:W3CDTF">2015-05-15T00:38:02Z</dcterms:modified>
  <cp:revision>30</cp:revision>
  <dc:subject/>
  <dc:title>Apresentação do PowerPoint</dc:title>
</cp:coreProperties>
</file>