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1B6-092E-4B0B-A9EA-CCE5D944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B81-FF2F-41B1-84AE-E257BEB8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4B3-BA6D-45E1-8F1B-6831D4AB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FEE-77D3-4A64-81BD-0C93908D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520D-93D5-4A7B-AA74-3EF7D971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385B-7057-40A3-865B-AF7B42F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3EEE-0F3B-4B3C-AB87-D5015A80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549-71E2-4FC5-AAA9-EED6180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A670-E1AC-4D02-8319-ABF74B53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51F1-1D93-4406-B2B9-BB5BFFC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BFB-4B5E-4C9E-8748-EF7701E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A49-5087-4981-8DC0-B2DB6DB0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9E0C-B70F-4FC8-B1BF-1170452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4C1C-560D-432E-8E61-B1A3077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8B13-E04D-4FA6-B96B-AF7E1818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6F49-CADA-41F3-AE41-55D933E4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398-4BA1-42D2-9D54-03D18256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EBD-855C-49C2-A8CD-D970D2D4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9EE-CB5A-4FB8-803F-62B8BB6A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DFD-AF4E-462F-AA1F-CA4F3EDB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434-0595-4C88-8DF6-00B034AA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5B5-58FD-4B5C-9280-684F143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5EE-BE3D-4F5A-B816-6E3D733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B5A-4FD7-4A7A-916B-B670721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236-2244-4590-8301-1EAD35F4354B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63DE-436A-4EFB-B883-26ADB98FC83A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f5897"/>
                </a:solidFill>
                <a:latin typeface="Palatino Linotype"/>
              </a:rPr>
              <a:t>(Auto)biografia</a:t>
            </a:r>
            <a:br>
              <a:rPr sz="3200"/>
            </a:br>
            <a:r>
              <a:rPr b="0" lang="pt-BR" sz="1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pt-BR" sz="2800" spc="-1" strike="noStrike">
                <a:solidFill>
                  <a:srgbClr val="2f5897"/>
                </a:solidFill>
                <a:latin typeface="Palatino Linotype"/>
              </a:rPr>
              <a:t>e a diversidade do aluno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Retângulo 6"/>
          <p:cNvSpPr/>
          <p:nvPr/>
        </p:nvSpPr>
        <p:spPr>
          <a:xfrm>
            <a:off x="179280" y="5084640"/>
            <a:ext cx="828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lavio Jose Vargas Pinheiro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argas@fargas.com.b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s memórias são válidas principalmente porque elas conseguem desvelar a força dos sentimentos que emanam durante o aprendizado. Segundo Camerom o estudo de idiomas não envolve apenas questões práticas, do tipo "como se fala X em inglês?", mas também questões subjetivas, como "quem eu sou/eu me torno quando falo um novo idioma?"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9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focos de interesse no uso de memoriais são, por exemplo: estratégias de aprendizagem, motivação, autonomia  e auto-aprendizagem, pais com dois idiomas e estrangeiros no papel de aluno e professo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0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Deterioração da memória X Conhecimento íntim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79365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S 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grande limitação da pesquisa autobiográfica é a dependência da capacidade do pesquisador-sujeito de escrever um relato publicável de suas experiências. Ou seja, das suas habilidades de escritor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Pesquisas biográficas, por outro lado, permitem explorar uma gama mais ampla de sujeit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EXEMPLO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Wez: fitas de áudio e bloco de notas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Karol: relatos de imigração e relacionamento afetiv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SUBJETIV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studos focados mais nos processos subjetivos do que na proficiência do idiom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ESCIMENTO DAS PESQUISAS AUTO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Mas o que, afinal, é que aproxima estes estudos e o que os diferencia de outros?  O fato de serem estudos qualitativos e a sua conexão com outros trabalhos, de outras áreas, que também se baseiam em processos narra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UM NOVO OLHA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Também é possível notar, mais recentemente, uma mudança de foco, do estudante como um ser abstrato (como visto nos estudos mais antigos) para o padrão atual, onde se leva em conta que os estudantes têm uma história pessoal e experiências (de aprendizagem) para conta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BIBL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BENSON, Phil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(Auto)biography and learner diversity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In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 BENSON, Phil; 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UNAN, David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Learners's Stories. Difference and Diversity in Language Learning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1. ed. London: Cambridge University Press, 2005. p. 4, 12-18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71280" y="1092240"/>
            <a:ext cx="7561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(AUTO)BIOGRAFI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 usado neste capítulo se refere a uma ampla abordagem de pesquisas que focam na análise e descrição de fenômenos sociais, da maneira como foram vivenciados dentro do contexto da vida dos indivíduos. Esta abordagem tem sido largamente discutida e usada no campo da educação, principalmente como método de investigação de vida de professores e alun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, neste artigo, se refere tanto a biografias quanto autobiografia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TERMINOLOG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termos muito usados: pesquisa narrativa, estudo narrativo de vidas,auto-etnografia, experiência pessoal e história de vida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AUTOBIOGRAFIA E B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autor usa o termo (auto)biografia para indicar que, no contexto das pesquisas sobre o aprendizado de um segundo idioma, as informações são, via de regra, relatos na primeira pessoa, de experiências vivenciadas, e que são analisadas ou pelo próprio sujeito da pesquisa (autobiograficamente) ou por outro pesquisador (biograficamente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ÍT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s críticos da metodologia tradicional de pesquisa, essencialmente quantitativa e focada em resultados, argumentam em favor de uma ênfase maior em pesquisas qualitativas e também em favor de um foco maior na dimensão social  e afetiva do processo de aprendizagem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ÓR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m resumo: as narrativas não deixam de ser um instrumento de coleta de informação e têm a memória como elemento básico em pesquisas desta natureza. A memória e os instrumentos de análise confluem para um melhor entendimento da realidade pesquisad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 AUTOBIOGRÁFIC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o contexto do estudo de um segundo idioma, o uso da autobiografia apareceu primeiro na forma de diários introspec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força dos diários repousa mais sobre o fato de que os pesquisadores se tornarem aptos a explorar fatores como afetividade, estratégias de aprendizado e a percepção do próprio aluno sobre seu o processo de aprendizagem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ONFIABILIDADE, CREDIBILIDADE, VAL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uso de diários introspectivos parece agregar confiabilidade, credibilidade e dar validade às pesquisas nas quais são utilizad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Um dos princípios que norteiam o uso dos diários introspectivos determina que ele deve ser escrito concomitantemente ao aprendizad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nsequência disso é que o pesquisador deve decidir com antecedência que irá fazer uso deste recurso, e fazê-lo em um período de tempo relativamente pequen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m isso a atenção dos pesquisadores voltou-se para os memoriais – mais extensos e mais autêntic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8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54:36Z</dcterms:created>
  <dc:creator>Rose</dc:creator>
  <dc:description/>
  <dc:language>en-US</dc:language>
  <cp:lastModifiedBy>Flavio Fargas</cp:lastModifiedBy>
  <dcterms:modified xsi:type="dcterms:W3CDTF">2015-05-15T00:38:02Z</dcterms:modified>
  <cp:revision>30</cp:revision>
  <dc:subject/>
  <dc:title>Apresentação do PowerPoint</dc:title>
</cp:coreProperties>
</file>