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7CC-229F-4D7B-A1C4-11240E9E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78D-3F11-447B-A0E8-7301B3B9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D81-617E-47E8-A1F9-9A75EA1E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B66-3694-4FC4-ACA3-AC0B829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FF59-1C42-4EEB-A88A-D55C40F7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91F-2273-4F5F-BC49-2782CCB4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6BE-DCA1-46BE-87B6-D69A62D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6A7-3B2C-4C2B-9CBC-028CECC5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5929-3FBC-4DBA-9DC3-632B104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07D-885F-4D24-8EBF-B4FB3B0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37E5-6916-4DA6-B785-35415C6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FE7-0A11-4CF2-96D6-6F18FEB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A6FD-B3B9-4407-B48C-C1554A5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6180-B70A-42B8-826D-B4B613DF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35F6-D7F9-4CD4-BEF1-B19363D5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39FF-9179-4BA2-8A02-716A66AE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E6B-D2A0-41FF-BB0F-1818B1C0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7721-49C5-4ED0-B3B5-00DF1B1E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C5E1-7614-463F-9D78-0F84904C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7597-45CD-4F53-BACD-E2244C5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6969-0266-43B6-817D-5ADF922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EB2B-2297-4CB4-A4EF-106B6A8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65F-9E39-4E70-BDE1-B6ECD29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E229-CCFB-460D-8005-E92B474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4DDF-287C-4E4B-8FEB-B6C47B7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9D09-F47B-4353-8D5F-4561A755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EB58-4C13-4F30-AEFE-9814118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AFED-FCCC-4632-96CC-9DA5F7FD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7B85-7DD1-401F-992F-81842A02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624D-2656-411B-B564-31A27764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3275-7B31-4104-9AB6-DC6684CB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9075-01D1-4BD2-BBA4-7F594AA0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568A-3207-4FDE-A6B8-89ED5B3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36D-3C15-4C8C-8CF0-F5B54C90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F014D-FB88-4233-A3DB-27A31B8C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B8E6C-89D9-4785-8D4E-5A56BAA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F0B0-8844-4321-A569-D5088B4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6DD7-FEB4-4C33-972F-A8A3A99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9635-1BD6-426A-A9C1-5787FCF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8455-AC7F-4E04-80EB-3E0696E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4A3B-39EF-48A6-9AF0-575E882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1D5A-EE31-4459-B27D-11450E3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026B-781C-4CD2-A57A-61C4A236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85D8-C683-4AB6-9B46-40B8BA13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2DD-BC68-462E-AB51-ECC2232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3831-C047-44C5-A243-E2FE691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1406-42B8-4AE5-B062-5D28B13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70B7-BD52-496B-882B-BFD4D49C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1E4E-3E36-4440-ABD4-C93B4E7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B19E-086C-449E-AC3A-74B9776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47E4-4ACC-4953-96D2-D5C6077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CE21-BD93-4C90-AB02-D4B5940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4956-7052-454B-AEEF-CCD4F4E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605E-C254-4F71-95ED-6B47EE58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BFAF-FDD4-497D-802C-E8C2DB97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11F-EE99-4940-B08C-DA5EECE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A72F-8ED7-43F2-8EB1-0AA0BC0A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B5E4-C594-4077-A9FC-0D7F309E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D145-688B-4763-BF35-F0FF2D5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E08DC-25DD-4654-B045-491E3416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AA66A-9CF0-497F-BF9D-B70338E9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F9CE-83B1-44A1-8000-AE592500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78DA5-59CC-461C-BC2D-E7C8C2C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2F23-8135-4348-9779-6AA03D4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B4FF-8DAD-492E-85E9-C30533B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5408E-1B18-4F39-827E-3F9E554F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045-709B-4BE9-9885-22ACCE5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634EA-FA04-4CDB-927A-C0FB030C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2894-5E90-4F37-AEEE-FDF4C9F9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D31F-2631-4670-834F-90EC9F23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61BB-36E3-4AE4-A029-6965EA80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50E0-A381-48FE-979E-ED7670B5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B526-F4D4-48DB-8C8F-A691EC8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1A07-7E98-4655-8ECC-0D7BD90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3DD0-0B55-421A-BB19-64FC0935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AAA2-72B9-45C7-9F7E-0E6E5FB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7594-8DEF-4DF2-AEEE-C7B29A5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D0D-CB08-4813-8B75-ACAD436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0C97-F1DC-4A7F-B89A-400DCF1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2BA26-2742-489E-BEEF-F3855F1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9F726-01B5-43F8-8FBE-DD5ABD4B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1F647-5E4E-4017-8634-6543E1FE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BED87-C890-43DC-95F2-8858B234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9B0-08E4-49C1-B628-F1A63D1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414C-1E15-405C-91D7-2C237A26AC74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sca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osca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e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e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743-B415-4E7F-8C6D-AD9F0AD749E3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e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e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38C-0493-4A43-A23C-D608E15D844A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BBEE-EE34-4EAC-94EF-4E1CF30DB50B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F5D3-85EB-48A6-BED1-D3A903D08632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1213-9598-4C01-8467-7D8130B85A5D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ângulo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tângulo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uxograma: Proces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uxograma: Proces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4b1a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0725-2CB7-4530-AB99-4322E4CE3072}" type="slidenum">
              <a:rPr b="0" lang="pt-BR" sz="1200" spc="-1" strike="noStrike">
                <a:solidFill>
                  <a:srgbClr val="b4b1a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2171520"/>
            <a:ext cx="8143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Tipos: estruturadas,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semiestruturadas e </a:t>
            </a:r>
            <a:br>
              <a:rPr sz="3900"/>
            </a:br>
            <a:r>
              <a:rPr b="0" lang="pt-BR" sz="3900" spc="-1" strike="noStrike">
                <a:solidFill>
                  <a:srgbClr val="11488b"/>
                </a:solidFill>
                <a:latin typeface="Gill Sans MT"/>
              </a:rPr>
              <a:t>não estruturadas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428720" y="5357520"/>
            <a:ext cx="4714920" cy="50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2554"/>
                </a:solidFill>
                <a:latin typeface="Gill Sans MT"/>
              </a:rPr>
              <a:t>Fabrícia dos Santos Figueir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ítulo 2"/>
          <p:cNvSpPr/>
          <p:nvPr/>
        </p:nvSpPr>
        <p:spPr>
          <a:xfrm>
            <a:off x="1928880" y="357120"/>
            <a:ext cx="7000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Centro Federal de Educação Tecnológica de Minas Ge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Mestrado em Estudo de Lingu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Disciplina: Metodologia da Pesqu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95959"/>
                </a:solidFill>
                <a:latin typeface="Gill Sans MT"/>
                <a:ea typeface="Calibri"/>
              </a:rPr>
              <a:t>Profa. Raquel Bambi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http://www.portal.fae.ufmg.br/simposionete/img/logo_cefet_color.png"/>
          <p:cNvPicPr/>
          <p:nvPr/>
        </p:nvPicPr>
        <p:blipFill>
          <a:blip r:embed="rId1"/>
          <a:stretch/>
        </p:blipFill>
        <p:spPr>
          <a:xfrm>
            <a:off x="1143000" y="357120"/>
            <a:ext cx="1519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trevistas estruturadas são usadas em situações em que um questionário escrito seria adequado na teoria, mas, por algum motivo, o formato de escrita não é viáv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Baixo nível de alfabetização entre os participantes ou a necessidade de um controle mais rígido como em algumas pesquisas de mercado ou pesquisas de opiniã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mbém conhecida como entrevista etnográfica, a entrevista não estruturada não possui perguntas específicas ou respostas codificad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intenção é criar um ambiente descontraído em que o entrevistado se sinta a vontade para revelar mais do que ele revelaria em contextos forma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ão há um roteiro de entrevista preparado com antecedência, mas, geralmente o pesquisador pensa em algumas perguntas de abertura (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grand tou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para provocar a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rante a entrevista, o pesquisador pode fazer uma pergunta ocasional para esclarecimento e dar feedback para manter a entrevista em movimento, mas as interrupções devem ser mínim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não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a que uma entrevista não estruturada seja bem sucedida, é indispensável que o entrevistador estabeleça um bom relacionamento com 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e tipo de entrevistas é mais apropriado quando a pesquisa pretende estudar fenômenos particulares ou quando algum relato histórico pessoal é relevant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m estudos linguísticos aplicados a maioria das entrevistas pertencem ao tipo semi-estrutur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 formato é aberto e embora não haja um roteiro e um conjunto de perguntas preelaboradas, o entrevistado é incentivado a falar sobre as questões levantadas, de forma exploratór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pic>
        <p:nvPicPr>
          <p:cNvPr id="349" name="Diagrama 2" descr=""/>
          <p:cNvPicPr/>
          <p:nvPr/>
        </p:nvPicPr>
        <p:blipFill>
          <a:blip r:embed="rId1"/>
          <a:stretch/>
        </p:blipFill>
        <p:spPr>
          <a:xfrm>
            <a:off x="1298520" y="2030400"/>
            <a:ext cx="8058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Entrevistas semi-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semi-estruturada é adequado para casos em que o pesquisador tem um bom panorama do objeto / fenômeno a ser estudado e é capaz de formular com antecedência perguntas gerais sobre o tema mas não quer utilizar categorias de respostas prontas que limitariam a profundidade de uma amplitude de história do entrevist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rtanto, este formato necessita de um roteiro de entrevista que deve ser elaborado e pilotado com antecedên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pois que o plano de amostragem inicial foi finalizado e questões éticas (como o consentimento do entrevistado) forem resolvidas, o pesquisador precisa preparar um roteiro de entrevista detalhado que servirá como o principal instrumento de pesquis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incipal função do roteiro ou guia de entrevista é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arantir que todos os assuntos relevantes serão abordados e nenhuma informação importante será esquecid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piciar uma elaboração adequada da pergunt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3840" indent="-49896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a lista de perguntas úteis para serem utilizadas, se necessário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1488b"/>
                </a:solidFill>
                <a:latin typeface="Gill Sans MT"/>
              </a:rPr>
              <a:t>Preparação para a entrevista e desenvolvimento do roteiro</a:t>
            </a:r>
            <a:endParaRPr b="0" lang="en-US" sz="39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erecer um modelo para iniciar a entrevista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1120" indent="-50904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star alguns comentários que devem ser consider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361080" indent="-2797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de ser aconselhável combinar este guia com um “diário de entrevista”, deixando um espaço nele para registrar os detalhes da entrevista (Ex.: participante, cenário, duração), bem como para comentários e notas do entrevistado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A entrevista consiste numa interação entre o entrevistador e o entrevistado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Gill Sans MT"/>
              </a:rPr>
              <a:t>Por ser uma rotina de comunicação conhecida a entrevista funciona como um instrumento de pesquisa versátil e é um dos métodos mais utilizados nas pesquisas qualitativas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As primeiras pergunta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stas são particularmente importantes em uma entrevista, não tanto do ponto de vista de conteúdo, mas sim porque elas definirão o tom da entrevista e criarão o clima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squisadores muitas vezes começam com perguntas pessoais ou factuais fáceis (por exemplo, sobre a família do entrevistado ou trabalho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alidade das respostas subseqüentes dependerão, em grande medida, do clima de confiança que criado nesse período quebra-gelo inici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092"/>
                </a:solidFill>
                <a:latin typeface="Gill Sans MT"/>
              </a:rPr>
              <a:t>Questões conteúd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bre qualquer tema, é possível perguntar de acordo com seis diferentes aspectos sobre visão geral / experiência do participante em relação ao fenômen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riências e comporta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piniões e valore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ntimento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heciment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ção sensori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enário ou informações demográfic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76092"/>
                </a:solidFill>
                <a:latin typeface="Gill Sans MT"/>
              </a:rPr>
              <a:t>Sondas (probes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natureza emergente de dados de entrevistas qualitativas pode ser reforçada através da aplicação de várias sondas que utilizam o que o entrevistado disse como ponto de partida para ir mais longe e para aumentar a riqueza e a profundidade das resposta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.: Você usou a palavra "liberdade" duas vezes - o que liberdade significa exatamente para você / o que você quis dizer com isso ...?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Tipos de perguntas e tem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A pergunta de fechament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mite que o entrevistado tenha a palavra no final da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: "Existe alguma coisa que você gostaria de acrescentar?" ou "O que eu deveria ter perguntado a você que eu não perguntei? '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Dicas finais: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uas regras particularmente importantes são que, devemos evita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pciosas ("Foi frustrante, não foi ...?"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52480" indent="-504000">
              <a:spcBef>
                <a:spcPts val="550"/>
              </a:spcBef>
              <a:buClr>
                <a:srgbClr val="4f81bd"/>
              </a:buClr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guntas carregadas, palavras ambíguas ou jargõ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m questões gerais, as perguntas devem ser curtas e relativamente simp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ar palavras que fazem sentido para o entrevistado e refletem seu estilo de vida melhora a qualidade dos dados da entrevist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Referências Bibliográfic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ÖRNYEI, Z. Qualitative data collection. In: 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search methods in Applied Linguist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quantitative, qualitative and mixed methodologies. Oxford: OUP, 2007. ch. 6, p. 124-162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istem diferentes tipos de entrevista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extremamente estruturadas se assemelham aos questionários quantit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qualitativa típica é one-to-one (face a face) e tem o objetivo de obter informações sobre o estilo de vida do entrevistado ou sua opnião / percepção sobre fenômenos descritos ou o objeto estuda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11488b"/>
                </a:solidFill>
                <a:latin typeface="Gill Sans MT"/>
              </a:rPr>
              <a:t>Principais </a:t>
            </a: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tipos de entrevist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entrevista one-to-one pode ser dividida em diferentes tipos, de acordo com o grau de estrutura durante o processo (</a:t>
            </a:r>
            <a:r>
              <a:rPr b="1" lang="en-US" sz="2800" spc="-1" strike="noStrike">
                <a:solidFill>
                  <a:srgbClr val="376092"/>
                </a:solidFill>
                <a:latin typeface="Gill Sans MT"/>
              </a:rPr>
              <a:t>estruturadas, semiestruturadas e não estruturada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, e se existem sessões únicas ou múltiplas de entrev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entrevista qualitativa típica é um evento isolado com duração de cerca de 30-60 minu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entanto, Polkinghorne (2005) argumenta,  que entrevistas únicas, raramente, são capazes de produzir descrições completas e ricas, necessárias para a pesqui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 base na obra de Seidman ele recomenda que os investigadores administrem uma sequência de três entrevistas com o mesmo participante para obter profundidade e amplitude suficient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 primeira entrevista quebra o gelo e desenvolve a empatia com o entrevistado,  ao mesmo tempo que proporciona um rápido levantamento do que será investigado depois. a ser investigado depoi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 intervalo entre a primeira e a segunda entrevista permite que o entrevistador prepare um roteiro de entrevista mais direcionado para a segunda sessão e também oferece ao entrevistado a possibilidade de pensar mais profundamente sobre a experiênci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o resultado, a segunda entrevista é mais focada do que o primeir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Sessões únicas ou múltipl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mente, depois de ter analisado as transcrições das duas primeiras sessões, na terceira entrevista o pesquisador pode esclarecer quaisquer dúvidas pendent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-se notar que o formato de sessões múltiplas descrito aqui não é o mesmo utilizado em um estudo através de entrevista longitudinal porque o efeito das três sessões não é para documentar as alterações temporais mas para se chegar a uma descrição complet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ste formato, o pesquisador segue um roteiro preestabelecido, </a:t>
            </a: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dentro de um conjunto limitado de categorias de respost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As respostas são registadas de acordo com um esquema de codificação também preestabeleci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Gill Sans MT"/>
              </a:rPr>
              <a:t>As entrevistas estruturadas</a:t>
            </a:r>
            <a:endParaRPr b="0" lang="en-US" sz="4300" spc="-1" strike="noStrike">
              <a:solidFill>
                <a:srgbClr val="11488b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76092"/>
                </a:solidFill>
                <a:latin typeface="Gill Sans MT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facilidade de comparação das respostas dos participantes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Gill Sans MT"/>
              </a:rPr>
              <a:t>DESVANTAG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stas e dados limit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á pouco espaço para variação ou espontaneidade nas respos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2:52:42Z</dcterms:created>
  <dc:creator>Fabricia</dc:creator>
  <dc:description/>
  <dc:language>en-US</dc:language>
  <cp:lastModifiedBy>una</cp:lastModifiedBy>
  <dcterms:modified xsi:type="dcterms:W3CDTF">2015-05-06T14:55:38Z</dcterms:modified>
  <cp:revision>6</cp:revision>
  <dc:subject/>
  <dc:title>ENTREVISTAS Tipos: estruturadas,  semiestruturadas e  não estruturadas</dc:title>
</cp:coreProperties>
</file>