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BC4-EF69-4378-9609-AAAC6D0F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38C-3773-4FBE-B691-B086FA23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438-FF35-4FF3-8978-696521D3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500-38B9-40D6-A495-9609B12F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1627-33BF-40F1-B6ED-CBAA0EE2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6FDA-0616-4A99-82A4-4F387D44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954E-A586-467C-8101-43ED4AE5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016C-9231-422B-8CF1-B9B56AA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F34-65FC-4810-B35C-22E9C92A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24D7-8935-431A-B2B8-1E8A8FA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8A65-B6A8-4124-BF30-CB0C55D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D92-8362-4C1D-A01E-48E99A29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BA18-CF74-4A6D-80FC-3E31D52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E941-F641-4F69-89D5-0FAB5DD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C19A-F00B-42F7-BACA-5035FBC5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BC7A-98F4-4594-BF2A-70D261F9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8D7E-97E6-4733-9FF9-2F84E348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5AE2-9347-4D39-BE8A-96179D3B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42F3-98C7-495A-AACE-D1DE3001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1592-6750-46EC-90EF-904C88F1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3AC5-2ADB-49AF-8373-D6CCD23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2226-6228-4AA5-BD62-CD98C861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C9F-AE03-471C-A02C-E6E16264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1165-C733-476C-8388-C37F834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2899-88D3-4FD7-B088-750A5F32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9348-3F70-4A9F-917C-019B252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35DD-EF52-4A7B-AEAA-A0CDA70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39E0-B49A-4666-B7D5-B0984614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1628-239C-42B6-88B8-ADAA3109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9C00-B1F4-433E-9B4B-B5882B2B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C37B-F246-4C07-8478-6FF608E1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7E70-310E-42F5-AA72-CE391DF9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7D4CB-B5F0-478B-BBE2-84FAF06B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660-448D-4558-BB53-C40D818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46AD-D2E3-4691-82D1-41D1DD37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25BE-8EA9-45E8-9588-430A54D3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034D-E27C-4998-9686-424EFE85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3044-5CC6-46CC-A704-43113B0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B1AF-F369-49FE-B0E1-7AF00A4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4371-94A8-4264-B38E-D35D450D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C55C-B2BD-49CA-8845-E5967A76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6936A-663C-4109-8449-68C0C7E0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C5FB-ACE4-4CA5-83E7-0806A7C1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4D4D0-EDA8-4923-8C48-EA9546F7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CD4-56BD-45D0-A389-458EB090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90309-E35C-4B9B-A543-B40E81B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9F71E-473D-4B96-BE70-8C54327D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A856-458C-4E85-B311-9DD9FCA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3A08-AD00-4D7D-A615-6128775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C5C58-7CFF-4826-8C70-D07C5A2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3A6A-B401-463C-9943-1636F9A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133AE-5B69-4FC5-BC29-15932B16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6057-0CD9-4EFD-A97B-B0226AE7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61AC-D821-42DB-8CA1-870D3BC5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56F9-3C88-48DC-8316-723E8172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D0C-0CA7-4C78-B71B-4C3A3F21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8E23D-0E52-4DB4-A97B-E35FAD96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DF82-3268-455D-9B0F-F9801F7D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1CB4-C919-46A0-89F9-A3E5B72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D196-D5C5-46C6-8177-4B59F626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FF7B-71D9-4130-97BF-8A4A0230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0942-78ED-49DA-8277-2BBC63A0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AA59-D017-4D74-8C4F-573AE99B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3AEE2-930B-4998-AA31-7F682A9E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EAC7-5118-411C-B36A-EE36BFE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083E-85B6-46BF-9D05-2ABE2E5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F0E-9B44-4D37-A0B5-4ECF894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23BCD-E5FC-40BD-9C0D-7A736D1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4EAC-EFB5-40D3-A8AA-ABBE8F57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3A42F-8DA0-47E9-8574-11B12CCF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CCA0-41BC-45AD-B981-3D5BF80F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51D6-F1A6-40CD-83ED-45BCE89A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2DDB-DD42-48F0-8D46-4C9C2707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AC1A-5A91-4E13-9BC9-840FA43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ABE5-8F96-4A53-B448-7F0131C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44C9-D12F-4C36-983B-9C6BB955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180F1-C070-4646-9B1C-A7ED365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51B-221C-4C58-8F24-D872BCB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4379B-A360-4CCF-BF7E-209919A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594C8-0C1F-4253-88EF-553E34A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39DD0-2957-4EFD-9C1B-D584A6C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9B159-1D84-4EE1-AD03-E988A0C9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5389D-0156-4E07-B179-13E51C1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B0C-7126-4289-BAEE-00729697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A5D3-4E4A-4AC5-B987-3E8CDD5CF30E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e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e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F537-E1E8-4473-B466-2AF6A0199995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e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e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5738-A9F9-4B74-A291-CD797D6802A0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2F1-3CF6-4AE8-8F21-E51C14F45C3E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â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D3DB-0DDE-4D02-9866-0DA21DDF6868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4FC6-79EC-41B8-8992-D0FCA3C0770D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ângulo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tângulo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uxograma: Proces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uxograma: Proces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EFEB-ED88-4919-899C-FECE291D352F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0080" y="2171520"/>
            <a:ext cx="814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Tipos: estruturadas,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semiestruturadas e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não estruturadas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428720" y="5357520"/>
            <a:ext cx="4714920" cy="500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554"/>
                </a:solidFill>
                <a:latin typeface="Gill Sans MT"/>
              </a:rPr>
              <a:t>Fabrícia dos Santos Figueir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ítulo 2"/>
          <p:cNvSpPr/>
          <p:nvPr/>
        </p:nvSpPr>
        <p:spPr>
          <a:xfrm>
            <a:off x="1928880" y="357120"/>
            <a:ext cx="7000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Centro Federal de Educação Tecnológica de Minas Ge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Mestrado em Estudo de Lingu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Disciplina: Metodologia da Pesqu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Profa. Raquel Bambi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http://www.portal.fae.ufmg.br/simposionete/img/logo_cefet_color.png"/>
          <p:cNvPicPr/>
          <p:nvPr/>
        </p:nvPicPr>
        <p:blipFill>
          <a:blip r:embed="rId1"/>
          <a:stretch/>
        </p:blipFill>
        <p:spPr>
          <a:xfrm>
            <a:off x="1143000" y="357120"/>
            <a:ext cx="1519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trevistas estruturadas são usadas em situações em que um questionário escrito seria adequado na teoria, mas, por algum motivo, o formato de escrita não é viáv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Baixo nível de alfabetização entre os participantes ou a necessidade de um controle mais rígido como em algumas pesquisas de mercado ou pesquisas de opiniã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mbém conhecida como entrevista etnográfica, a entrevista não estruturada não possui perguntas específicas ou respostas codificad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intenção é criar um ambiente descontraído em que o entrevistado se sinta a vontade para revelar mais do que ele revelaria em contextos forma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ão há um roteiro de entrevista preparado com antecedência, mas, geralmente o pesquisador pensa em algumas perguntas de abertura (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grand tou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para provocar a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rante a entrevista, o pesquisador pode fazer uma pergunta ocasional para esclarecimento e dar feedback para manter a entrevista em movimento, mas as interrupções devem ser mínim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a que uma entrevista não estruturada seja bem sucedida, é indispensável que o entrevistador estabeleça um bom relacionamento com 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e tipo de entrevistas é mais apropriado quando a pesquisa pretende estudar fenômenos particulares ou quando algum relato histórico pessoal é relevan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 estudos linguísticos aplicados a maioria das entrevistas pertencem ao tipo semi-estrutur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formato é aberto e embora não haja um roteiro e um conjunto de perguntas preelaboradas, o entrevistado é incentivado a falar sobre as questões levantadas, de forma exploratór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pic>
        <p:nvPicPr>
          <p:cNvPr id="349" name="Diagrama 2" descr=""/>
          <p:cNvPicPr/>
          <p:nvPr/>
        </p:nvPicPr>
        <p:blipFill>
          <a:blip r:embed="rId1"/>
          <a:stretch/>
        </p:blipFill>
        <p:spPr>
          <a:xfrm>
            <a:off x="1298520" y="2030400"/>
            <a:ext cx="8058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semi-estruturada é adequado para casos em que o pesquisador tem um bom panorama do objeto / fenômeno a ser estudado e é capaz de formular com antecedência perguntas gerais sobre o tema mas não quer utilizar categorias de respostas prontas que limitariam a profundidade de uma amplitude de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rtanto, este formato necessita de um roteiro de entrevista que deve ser elaborado e pilotado com antecedên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pois que o plano de amostragem inicial foi finalizado e questões éticas (como o consentimento do entrevistado) forem resolvidas, o pesquisador precisa preparar um roteiro de entrevista detalhado que servirá como o principal instrumento de pesquis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incipal função do roteiro ou guia de entrevista é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arantir que todos os assuntos relevantes serão abordados e nenhuma informação importante será esqueci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piciar uma elaboração adequada da pergunt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a lista de perguntas úteis para serem utilizadas, se necessário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 modelo para iniciar a entrevista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star alguns comentários que devem ser consider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361080" indent="-2797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de ser aconselhável combinar este guia com um “diário de entrevista”, deixando um espaço nele para registrar os detalhes da entrevista (Ex.: participante, cenário, duração), bem como para comentários e notas do entrevistado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A entrevista consiste numa interação entre o entrevistador e o entrevistado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Por ser uma rotina de comunicação conhecida a entrevista funciona como um instrumento de pesquisa versátil e é um dos métodos mais utilizados nas pesquisas qualitativas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As primeiras pergunta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stas são particularmente importantes em uma entrevista, não tanto do ponto de vista de conteúdo, mas sim porque elas definirão o tom da entrevista e criarão o clima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squisadores muitas vezes começam com perguntas pessoais ou factuais fáceis (por exemplo, sobre a família do entrevistado ou trabalho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alidade das respostas subseqüentes dependerão, em grande medida, do clima de confiança que criado nesse período quebra-gelo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Questões conteúd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bre qualquer tema, é possível perguntar de acordo com seis diferentes aspectos sobre visão geral / experiência do participante em relação ao fenômen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riências e comporta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piniões e valore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nti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heciment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ção sensoria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enário ou informações demográfic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76092"/>
                </a:solidFill>
                <a:latin typeface="Gill Sans MT"/>
              </a:rPr>
              <a:t>Sondas (probes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natureza emergente de dados de entrevistas qualitativas pode ser reforçada através da aplicação de várias sondas que utilizam o que o entrevistado disse como ponto de partida para ir mais longe e para aumentar a riqueza e a profundidade das respost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.: Você usou a palavra "liberdade" duas vezes - o que liberdade significa exatamente para você / o que você quis dizer com isso ...?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A pergunta de fechament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mite que o entrevistado tenha a palavra no final da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"Existe alguma coisa que você gostaria de acrescentar?" ou "O que eu deveria ter perguntado a você que eu não perguntei? 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Dicas finais: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uas regras particularmente importantes são que, devemos evita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pciosas ("Foi frustrante, não foi ...?"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rregadas, palavras ambíguas ou jargõ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m questões gerais, as perguntas devem ser curtas e relativamente simp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ar palavras que fazem sentido para o entrevistado e refletem seu estilo de vida melhora a qualidade dos dados da entrevist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Referências Bibliográfic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ÖRNYEI, Z. Qualitative data collection. In: 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search methods in Applied Linguist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quantitative, qualitative and mixed methodologies. Oxford: OUP, 2007. ch. 6, p. 124-162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istem diferentes tipos de entrevistas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extremamente estruturadas se assemelham aos questionários quantit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qualitativa típica é one-to-one (face a face) e tem o objetivo de obter informações sobre o estilo de vida do entrevistado ou sua opnião / percepção sobre fenômenos descritos ou o objeto estuda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Principais </a:t>
            </a: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tipos de 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one-to-one pode ser dividida em diferentes tipos, de acordo com o grau de estrutura durante o processo (</a:t>
            </a:r>
            <a:r>
              <a:rPr b="1" lang="en-US" sz="2800" spc="-1" strike="noStrike">
                <a:solidFill>
                  <a:srgbClr val="376092"/>
                </a:solidFill>
                <a:latin typeface="Gill Sans MT"/>
              </a:rPr>
              <a:t>estruturadas, semiestruturadas e não estruturada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, e se existem sessões únicas ou múltiplas de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entrevista qualitativa típica é um evento isolado com duração de cerca de 30-60 minu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entanto, Polkinghorne (2005) argumenta,  que entrevistas únicas, raramente, são capazes de produzir descrições completas e ricas, necessárias para a pesqui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 base na obra de Seidman ele recomenda que os investigadores administrem uma sequência de três entrevistas com o mesmo participante para obter profundidade e amplitude suficient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primeira entrevista quebra o gelo e desenvolve a empatia com o entrevistado,  ao mesmo tempo que proporciona um rápido levantamento do que será investigado depois. a ser investigado depoi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intervalo entre a primeira e a segunda entrevista permite que o entrevistador prepare um roteiro de entrevista mais direcionado para a segunda sessão e também oferece ao entrevistado a possibilidade de pensar mais profundamente sobre a experiênci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o resultado, a segunda entrevista é mais focada do que o primeir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mente, depois de ter analisado as transcrições das duas primeiras sessões, na terceira entrevista o pesquisador pode esclarecer quaisquer dúvidas pendent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-se notar que o formato de sessões múltiplas descrito aqui não é o mesmo utilizado em um estudo através de entrevista longitudinal porque o efeito das três sessões não é para documentar as alterações temporais mas para se chegar a uma descrição complet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ste formato, o pesquisador segue um roteiro preestabelecido, </a:t>
            </a: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dentro de um conjunto limitado de categorias de respost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As respostas são registadas de acordo com um esquema de codificação também preestabeleci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76092"/>
                </a:solidFill>
                <a:latin typeface="Gill Sans MT"/>
              </a:rPr>
              <a:t>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acilidade de comparação das respostas dos participantes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DES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stas e dados limit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á pouco espaço para variação ou espontaneidade nas respost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2:52:42Z</dcterms:created>
  <dc:creator>Fabricia</dc:creator>
  <dc:description/>
  <dc:language>en-US</dc:language>
  <cp:lastModifiedBy>una</cp:lastModifiedBy>
  <dcterms:modified xsi:type="dcterms:W3CDTF">2015-05-06T14:55:38Z</dcterms:modified>
  <cp:revision>6</cp:revision>
  <dc:subject/>
  <dc:title>ENTREVISTAS Tipos: estruturadas,  semiestruturadas e  não estruturadas</dc:title>
</cp:coreProperties>
</file>