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117B-A477-4BD4-95CA-DE9BB331D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450A-7711-4D28-8D5C-03FF851FA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FBE2-BD15-4BC6-BEDA-2AC598D94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4CD1-579C-419F-8E92-168BEF71E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1023C-8130-475A-BC23-1088097E9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A7FC9-BD01-4698-80BC-F413D4808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E2CE3-0E54-4E32-848F-3DE41D56F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97889-28D1-4978-AF59-0E794D46D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90140-EA06-41B3-976A-6A4950F1D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5ED9E-B637-4FC4-B821-04EB57ABA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FF31D-CA70-41BE-97F9-83AEDCC5C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7217-C051-4F77-8F4F-5CCE0A391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057F2-0922-4282-85BD-9CE514FA8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0D896-448A-4EF0-B86F-1C2B6C05E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273E4-E906-4668-A751-DCFBC21A7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41140-73E4-4C77-A4EC-2C13D8AB4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25B80-210B-4A68-AE2B-4EF03DFEC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D258B-AC5C-4E3F-981F-D336A920B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B15A5-A620-450B-96D3-876C70677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08CE9-1943-4FED-863F-649980B36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48EE5-DCA3-4D1D-AEEB-299F8E4B4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0AA3C-9055-4759-9739-5195D74E3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3922-82B5-4771-8DE8-96F033FC6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E8526-3D19-43BF-9C4F-B3FF8378B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5AF9C-9231-4DF7-BCB4-3CDD4A93F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01BA5-3089-4DCD-9A87-AF612A909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72736-60BE-4016-9B23-794D642DF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A97BA-3798-4DC8-9B09-7D7EF4EB3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4E11C-3580-4336-AFF7-70AFADE0A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ED591-81BD-4E61-98F1-194E29FA0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95F12-F50D-4B44-A659-D4718963A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73B4A-8CC0-4C71-A1D8-860F7F10F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C0CC3-AAB2-4E1A-9C52-384341DC7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29EE-8423-4E8B-A92A-06C32155B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AC3EF-EA8B-4FFE-95E9-BD65AB771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E2F3F-A6EA-4E2F-8FEB-7C774D3E0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1A2F2-A6F6-4981-B0C3-F951F8029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5EA62-8095-4D02-B206-6DD91BFFD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67D09-D900-4BA2-A6DF-2DBC6EC5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68243-B542-4FDB-A5BC-0E968F178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1A85E-A5D7-4199-BFB6-0514B6EE2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1BEF8-C8B6-4B79-A3CD-ADA35D8E3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C3D83-5C21-4A79-A36E-599482F2E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C9A857-D012-4B2E-B056-1849ABB05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48A6-6E45-47FD-99BC-3FB6825B9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29D958-9C76-483C-8F07-D9987294E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E21B61-E522-4CA0-A7C7-7092D4C5F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2A9701-3EE0-4C98-A432-0544DD08A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E45B08-74BE-4AF4-9BB0-6130B7892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5FA6B0-8E4F-4A09-8DC0-6D9C1D6E3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58D6C9-174C-4FC2-8CDA-7B7960547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B81B14-11C8-43E6-AD3E-1085ACE3A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9B7646-32E8-489F-BEA9-E86F18335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3DE2D2-1034-4797-AE09-F45EBF1A2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032C49-E557-4F45-A895-EDB7E06CC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61B0-E031-4423-A3FC-50E6BB346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9E13EC-4B9E-4A4D-9899-F9E620AF6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E82808-0236-482C-B2F5-97617063F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F882D9-7A43-4D5D-B007-9D2802F50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4B8138-79B2-4AE2-B047-F9D521AEF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9898FB-213E-4470-99C4-75E7F771D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B0E851-9510-4FB9-8607-7F0A6B299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CF81F7-55F7-4146-9920-2E09EBD54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34771F-633C-41C7-B252-1A7ACBE88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AC81D8-6F38-4891-A1E8-AFDE5434F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830B4E-554D-48BB-81F3-061847AD4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719A-6759-46C4-9AE9-F8B2CC022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304E48-399C-43CD-9706-8F310A489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A66E9A-3B63-4848-A8BA-1251E9D57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7465E6-5176-42E1-9C6D-908C513AA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1D100B-ADA3-464C-913F-BBE15E3B7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EC3919-1619-446E-8EA2-C601B7F75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E60061-EBF5-49B6-A97E-42E184C39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0B8CC5-3EC3-4E02-A342-E5533D635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A4F87C-208A-4D23-B0FE-CA0027641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5E81D8-45A9-4FCE-9E6A-D8B06E274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25A851-9BDA-4ECB-BB77-49504A2FD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BF36-38AA-4447-A2DD-538FC3CB6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2A3F81-3DF5-4AEF-BACF-F55AA0EEB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D3DB2D-7EE0-4B3D-B3F9-491CEA5D8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A83255-549B-43FA-AE54-CC6E5B9D2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A2E7CA-2224-487A-9450-A8BF85A31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E7AC53-5C97-4880-8825-8DFFC1DDD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F101-B0B0-44E7-BBF7-B8EE34969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zza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dfdf9">
              <a:alpha val="33000"/>
            </a:srgbClr>
          </a:solidFill>
          <a:ln cap="rnd" w="3240">
            <a:solidFill>
              <a:srgbClr val="d1cdb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Elipse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efbec"/>
            </a:solidFill>
            <a:miter/>
          </a:ln>
          <a:effectLst>
            <a:outerShdw dist="12600" dir="5400000" blurRad="0" rotWithShape="0">
              <a:srgbClr val="b1afa3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osca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Rosca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tângulo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1488b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064a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b4b1a0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b4b1a0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b4b1a0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C8B85-6BF1-4213-8B25-A4B82525EE6C}" type="slidenum">
              <a:rPr b="0" lang="pt-BR" sz="1200" spc="-1" strike="noStrike">
                <a:solidFill>
                  <a:srgbClr val="b4b1a0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tângulo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3726c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zza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dfdf9">
              <a:alpha val="33000"/>
            </a:srgbClr>
          </a:solidFill>
          <a:ln cap="rnd" w="3240">
            <a:solidFill>
              <a:srgbClr val="d1cdb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Elipse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efbec"/>
            </a:solidFill>
            <a:miter/>
          </a:ln>
          <a:effectLst>
            <a:outerShdw dist="12600" dir="5400000" blurRad="0" rotWithShape="0">
              <a:srgbClr val="b1afa3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Rosca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Rosca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tângulo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tângulo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3726c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Elipse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Elipse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Elipse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4471a6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1488b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064a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b4b1a0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b4b1a0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b4b1a0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C987F-A825-4AA3-B1EF-9F7D4D44C6BF}" type="slidenum">
              <a:rPr b="0" lang="pt-BR" sz="1200" spc="-1" strike="noStrike">
                <a:solidFill>
                  <a:srgbClr val="b4b1a0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tângulo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tângulo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3726c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Elipse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Elipse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Elipse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4471a6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1488b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064a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b4b1a0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b4b1a0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b4b1a0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306BD-2C6B-4E4E-B044-2CA18A6C1CFD}" type="slidenum">
              <a:rPr b="0" lang="pt-BR" sz="1200" spc="-1" strike="noStrike">
                <a:solidFill>
                  <a:srgbClr val="b4b1a0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1488b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064a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b4b1a0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b4b1a0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b4b1a0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D329E-D724-4B38-B86B-4FB978A7A86A}" type="slidenum">
              <a:rPr b="0" lang="pt-BR" sz="1200" spc="-1" strike="noStrike">
                <a:solidFill>
                  <a:srgbClr val="b4b1a0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tângulo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tângulo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3726c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1488b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064a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b4b1a0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b4b1a0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b4b1a0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4ED71-E22F-4289-BEE8-342402CBCCB7}" type="slidenum">
              <a:rPr b="0" lang="pt-BR" sz="1200" spc="-1" strike="noStrike">
                <a:solidFill>
                  <a:srgbClr val="b4b1a0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1488b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064a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b4b1a0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b4b1a0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b4b1a0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4AFA4-128B-4426-A985-216E8CBAB321}" type="slidenum">
              <a:rPr b="0" lang="pt-BR" sz="1200" spc="-1" strike="noStrike">
                <a:solidFill>
                  <a:srgbClr val="b4b1a0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tângulo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Retângulo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uxograma: Processo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9e6d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uxograma: Processo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eece1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1488b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064a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b4b1a0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b4b1a0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b4b1a0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2447D-1142-4262-8466-1B63A1D8DD7E}" type="slidenum">
              <a:rPr b="0" lang="pt-BR" sz="1200" spc="-1" strike="noStrike">
                <a:solidFill>
                  <a:srgbClr val="b4b1a0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00080" y="2171520"/>
            <a:ext cx="8143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900" spc="-1" strike="noStrike">
                <a:solidFill>
                  <a:srgbClr val="11488b"/>
                </a:solidFill>
                <a:latin typeface="Gill Sans MT"/>
              </a:rPr>
              <a:t>ENTREVISTAS</a:t>
            </a:r>
            <a:br>
              <a:rPr sz="3900"/>
            </a:br>
            <a:r>
              <a:rPr b="0" lang="pt-BR" sz="3900" spc="-1" strike="noStrike">
                <a:solidFill>
                  <a:srgbClr val="11488b"/>
                </a:solidFill>
                <a:latin typeface="Gill Sans MT"/>
              </a:rPr>
              <a:t>Tipos: estruturadas, </a:t>
            </a:r>
            <a:br>
              <a:rPr sz="3900"/>
            </a:br>
            <a:r>
              <a:rPr b="0" lang="pt-BR" sz="3900" spc="-1" strike="noStrike">
                <a:solidFill>
                  <a:srgbClr val="11488b"/>
                </a:solidFill>
                <a:latin typeface="Gill Sans MT"/>
              </a:rPr>
              <a:t>semiestruturadas e </a:t>
            </a:r>
            <a:br>
              <a:rPr sz="3900"/>
            </a:br>
            <a:r>
              <a:rPr b="0" lang="pt-BR" sz="3900" spc="-1" strike="noStrike">
                <a:solidFill>
                  <a:srgbClr val="11488b"/>
                </a:solidFill>
                <a:latin typeface="Gill Sans MT"/>
              </a:rPr>
              <a:t>não estruturadas</a:t>
            </a:r>
            <a:endParaRPr b="0" lang="en-US" sz="39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428720" y="5357520"/>
            <a:ext cx="4714920" cy="5000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2554"/>
                </a:solidFill>
                <a:latin typeface="Gill Sans MT"/>
              </a:rPr>
              <a:t>Fabrícia dos Santos Figueiró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Subtítulo 2"/>
          <p:cNvSpPr/>
          <p:nvPr/>
        </p:nvSpPr>
        <p:spPr>
          <a:xfrm>
            <a:off x="1928880" y="357120"/>
            <a:ext cx="7000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595959"/>
                </a:solidFill>
                <a:latin typeface="Gill Sans MT"/>
                <a:ea typeface="Calibri"/>
              </a:rPr>
              <a:t>Centro Federal de Educação Tecnológica de Minas Ger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595959"/>
                </a:solidFill>
                <a:latin typeface="Gill Sans MT"/>
                <a:ea typeface="Calibri"/>
              </a:rPr>
              <a:t>Mestrado em Estudo de Linguag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595959"/>
                </a:solidFill>
                <a:latin typeface="Gill Sans MT"/>
                <a:ea typeface="Calibri"/>
              </a:rPr>
              <a:t>Disciplina: Metodologia da Pesqui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595959"/>
                </a:solidFill>
                <a:latin typeface="Gill Sans MT"/>
                <a:ea typeface="Calibri"/>
              </a:rPr>
              <a:t>Profa. Raquel Bambir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4" descr="http://www.portal.fae.ufmg.br/simposionete/img/logo_cefet_color.png"/>
          <p:cNvPicPr/>
          <p:nvPr/>
        </p:nvPicPr>
        <p:blipFill>
          <a:blip r:embed="rId1"/>
          <a:stretch/>
        </p:blipFill>
        <p:spPr>
          <a:xfrm>
            <a:off x="1143000" y="357120"/>
            <a:ext cx="15192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1488b"/>
                </a:solidFill>
                <a:latin typeface="Gill Sans MT"/>
              </a:rPr>
              <a:t>As entrevistas estruturadas</a:t>
            </a: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ntrevistas estruturadas são usadas em situações em que um questionário escrito seria adequado na teoria, mas, por algum motivo, o formato de escrita não é viáve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x.: Baixo nível de alfabetização entre os participantes ou a necessidade de um controle mais rígido como em algumas pesquisas de mercado ou pesquisas de opinião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1488b"/>
                </a:solidFill>
                <a:latin typeface="Gill Sans MT"/>
              </a:rPr>
              <a:t>Entrevistas não estruturadas</a:t>
            </a: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ambém conhecida como entrevista etnográfica, a entrevista não estruturada não possui perguntas específicas ou respostas codificada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 intenção é criar um ambiente descontraído em que o entrevistado se sinta a vontade para revelar mais do que ele revelaria em contextos formai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1488b"/>
                </a:solidFill>
                <a:latin typeface="Gill Sans MT"/>
              </a:rPr>
              <a:t>Entrevistas não estruturadas</a:t>
            </a: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ão há um roteiro de entrevista preparado com antecedência, mas, geralmente o pesquisador pensa em algumas perguntas de abertura (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grand tour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) para provocar a história do entrevistado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urante a entrevista, o pesquisador pode fazer uma pergunta ocasional para esclarecimento e dar feedback para manter a entrevista em movimento, mas as interrupções devem ser mínima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1488b"/>
                </a:solidFill>
                <a:latin typeface="Gill Sans MT"/>
              </a:rPr>
              <a:t>Entrevistas não estruturadas</a:t>
            </a: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ara que uma entrevista não estruturada seja bem sucedida, é indispensável que o entrevistador estabeleça um bom relacionamento com o entrevistado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ste tipo de entrevistas é mais apropriado quando a pesquisa pretende estudar fenômenos particulares ou quando algum relato histórico pessoal é relevante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1488b"/>
                </a:solidFill>
                <a:latin typeface="Gill Sans MT"/>
              </a:rPr>
              <a:t>Entrevistas semi-estruturadas</a:t>
            </a: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m estudos linguísticos aplicados a maioria das entrevistas pertencem ao tipo semi-estruturado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 formato é aberto e embora não haja um roteiro e um conjunto de perguntas preelaboradas, o entrevistado é incentivado a falar sobre as questões levantadas, de forma exploratória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1488b"/>
                </a:solidFill>
                <a:latin typeface="Gill Sans MT"/>
              </a:rPr>
              <a:t>Entrevistas semi-estruturadas</a:t>
            </a: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pic>
        <p:nvPicPr>
          <p:cNvPr id="349" name="Diagrama 2" descr=""/>
          <p:cNvPicPr/>
          <p:nvPr/>
        </p:nvPicPr>
        <p:blipFill>
          <a:blip r:embed="rId1"/>
          <a:stretch/>
        </p:blipFill>
        <p:spPr>
          <a:xfrm>
            <a:off x="1298520" y="2030400"/>
            <a:ext cx="8058240" cy="41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1488b"/>
                </a:solidFill>
                <a:latin typeface="Gill Sans MT"/>
              </a:rPr>
              <a:t>Entrevistas semi-estruturadas</a:t>
            </a: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 entrevista semi-estruturada é adequado para casos em que o pesquisador tem um bom panorama do objeto / fenômeno a ser estudado e é capaz de formular com antecedência perguntas gerais sobre o tema mas não quer utilizar categorias de respostas prontas que limitariam a profundidade de uma amplitude de história do entrevistado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ortanto, este formato necessita de um roteiro de entrevista que deve ser elaborado e pilotado com antecedência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11488b"/>
                </a:solidFill>
                <a:latin typeface="Gill Sans MT"/>
              </a:rPr>
              <a:t>Preparação para a entrevista e desenvolvimento do roteiro</a:t>
            </a:r>
            <a:endParaRPr b="0" lang="en-US" sz="39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434960" y="1773000"/>
            <a:ext cx="749952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epois que o plano de amostragem inicial foi finalizado e questões éticas (como o consentimento do entrevistado) forem resolvidas, o pesquisador precisa preparar um roteiro de entrevista detalhado que servirá como o principal instrumento de pesquisa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11488b"/>
                </a:solidFill>
                <a:latin typeface="Gill Sans MT"/>
              </a:rPr>
              <a:t>Preparação para a entrevista e desenvolvimento do roteiro</a:t>
            </a:r>
            <a:endParaRPr b="0" lang="en-US" sz="39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434960" y="1844280"/>
            <a:ext cx="7499520" cy="44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 principal função do roteiro ou guia de entrevista é 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843840" indent="-498960">
              <a:spcBef>
                <a:spcPts val="550"/>
              </a:spcBef>
              <a:buClr>
                <a:srgbClr val="4f81bd"/>
              </a:buClr>
              <a:buFont typeface="Gill Sans MT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Garantir que todos os assuntos relevantes serão abordados e nenhuma informação importante será esquecida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843840" indent="-498960">
              <a:spcBef>
                <a:spcPts val="550"/>
              </a:spcBef>
              <a:buClr>
                <a:srgbClr val="4f81bd"/>
              </a:buClr>
              <a:buFont typeface="Gill Sans MT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ropiciar uma elaboração adequada da pergunta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843840" indent="-498960">
              <a:spcBef>
                <a:spcPts val="550"/>
              </a:spcBef>
              <a:buClr>
                <a:srgbClr val="4f81bd"/>
              </a:buClr>
              <a:buFont typeface="Gill Sans MT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ferecer uma lista de perguntas úteis para serem utilizadas, se necessário;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11488b"/>
                </a:solidFill>
                <a:latin typeface="Gill Sans MT"/>
              </a:rPr>
              <a:t>Preparação para a entrevista e desenvolvimento do roteiro</a:t>
            </a:r>
            <a:endParaRPr b="0" lang="en-US" sz="39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434960" y="1700280"/>
            <a:ext cx="749952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861120" indent="-509040">
              <a:spcBef>
                <a:spcPts val="550"/>
              </a:spcBef>
              <a:buClr>
                <a:srgbClr val="4f81bd"/>
              </a:buClr>
              <a:buFont typeface="Gill Sans MT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ferecer um modelo para iniciar a entrevista;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861120" indent="-509040">
              <a:spcBef>
                <a:spcPts val="550"/>
              </a:spcBef>
              <a:buClr>
                <a:srgbClr val="4f81bd"/>
              </a:buClr>
              <a:buFont typeface="Gill Sans MT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istar alguns comentários que devem ser considerado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361080" indent="-27972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ode ser aconselhável combinar este guia com um “diário de entrevista”, deixando um espaço nele para registrar os detalhes da entrevista (Ex.: participante, cenário, duração), bem como para comentários e notas do entrevistador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300" spc="-1" strike="noStrike">
                <a:solidFill>
                  <a:srgbClr val="11488b"/>
                </a:solidFill>
                <a:latin typeface="Gill Sans MT"/>
              </a:rPr>
              <a:t>Entrevistas</a:t>
            </a: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100" spc="-1" strike="noStrike">
                <a:solidFill>
                  <a:srgbClr val="000000"/>
                </a:solidFill>
                <a:latin typeface="Gill Sans MT"/>
              </a:rPr>
              <a:t>A entrevista consiste numa interação entre o entrevistador e o entrevistado.</a:t>
            </a: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100" spc="-1" strike="noStrike">
                <a:solidFill>
                  <a:srgbClr val="000000"/>
                </a:solidFill>
                <a:latin typeface="Gill Sans MT"/>
              </a:rPr>
              <a:t>Por ser uma rotina de comunicação conhecida a entrevista funciona como um instrumento de pesquisa versátil e é um dos métodos mais utilizados nas pesquisas qualitativas.</a:t>
            </a: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300" spc="-1" strike="noStrike">
                <a:solidFill>
                  <a:srgbClr val="11488b"/>
                </a:solidFill>
                <a:latin typeface="Gill Sans MT"/>
              </a:rPr>
              <a:t>Tipos de perguntas e temas</a:t>
            </a: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76092"/>
                </a:solidFill>
                <a:latin typeface="Gill Sans MT"/>
              </a:rPr>
              <a:t>As primeiras perguntas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stas são particularmente importantes em uma entrevista, não tanto do ponto de vista de conteúdo, mas sim porque elas definirão o tom da entrevista e criarão o clima inicial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esquisadores muitas vezes começam com perguntas pessoais ou factuais fáceis (por exemplo, sobre a família do entrevistado ou trabalho)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 qualidade das respostas subseqüentes dependerão, em grande medida, do clima de confiança que criado nesse período quebra-gelo inicial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300" spc="-1" strike="noStrike">
                <a:solidFill>
                  <a:srgbClr val="11488b"/>
                </a:solidFill>
                <a:latin typeface="Gill Sans MT"/>
              </a:rPr>
              <a:t>Tipos de perguntas e temas</a:t>
            </a: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76092"/>
                </a:solidFill>
                <a:latin typeface="Gill Sans MT"/>
              </a:rPr>
              <a:t>Questões conteúdo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obre qualquer tema, é possível perguntar de acordo com seis diferentes aspectos sobre visão geral / experiência do participante em relação ao fenômeno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70120" indent="-51444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Font typeface="Gill Sans MT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xperiências e comportamentos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70120" indent="-51444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Font typeface="Gill Sans MT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piniões e valores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70120" indent="-51444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Font typeface="Gill Sans MT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ntimentos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70120" indent="-51444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Font typeface="Gill Sans MT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onhecimento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70120" indent="-51444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Font typeface="Gill Sans MT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formação sensorial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70120" indent="-51444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Font typeface="Gill Sans MT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enário ou informações demográficas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300" spc="-1" strike="noStrike">
                <a:solidFill>
                  <a:srgbClr val="11488b"/>
                </a:solidFill>
                <a:latin typeface="Gill Sans MT"/>
              </a:rPr>
              <a:t>Tipos de perguntas e temas</a:t>
            </a: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434960" y="1447560"/>
            <a:ext cx="749952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376092"/>
                </a:solidFill>
                <a:latin typeface="Gill Sans MT"/>
              </a:rPr>
              <a:t>Sondas (probes)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Gill Sans MT"/>
              </a:rPr>
              <a:t>A natureza emergente de dados de entrevistas qualitativas pode ser reforçada através da aplicação de várias sondas que utilizam o que o entrevistado disse como ponto de partida para ir mais longe e para aumentar a riqueza e a profundidade das respostas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x.: Você usou a palavra "liberdade" duas vezes - o que liberdade significa exatamente para você / o que você quis dizer com isso ...?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300" spc="-1" strike="noStrike">
                <a:solidFill>
                  <a:srgbClr val="11488b"/>
                </a:solidFill>
                <a:latin typeface="Gill Sans MT"/>
              </a:rPr>
              <a:t>Tipos de perguntas e temas</a:t>
            </a: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092"/>
                </a:solidFill>
                <a:latin typeface="Gill Sans MT"/>
              </a:rPr>
              <a:t>A pergunta de fechamento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ermite que o entrevistado tenha a palavra no final da entrevist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x.: "Existe alguma coisa que você gostaria de acrescentar?" ou "O que eu deveria ter perguntado a você que eu não perguntei? '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300" spc="-1" strike="noStrike">
                <a:solidFill>
                  <a:srgbClr val="11488b"/>
                </a:solidFill>
                <a:latin typeface="Gill Sans MT"/>
              </a:rPr>
              <a:t>Dicas finais:</a:t>
            </a: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uas regras particularmente importantes são que, devemos evitar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52480" indent="-504000">
              <a:spcBef>
                <a:spcPts val="550"/>
              </a:spcBef>
              <a:buClr>
                <a:srgbClr val="4f81bd"/>
              </a:buClr>
              <a:buFont typeface="Gill Sans MT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erguntas capciosas ("Foi frustrante, não foi ...?")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52480" indent="-504000">
              <a:spcBef>
                <a:spcPts val="550"/>
              </a:spcBef>
              <a:buClr>
                <a:srgbClr val="4f81bd"/>
              </a:buClr>
              <a:buFont typeface="Gill Sans MT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erguntas carregadas, palavras ambíguas ou jargões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m questões gerais, as perguntas devem ser curtas e relativamente simple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Usar palavras que fazem sentido para o entrevistado e refletem seu estilo de vida melhora a qualidade dos dados da entrevista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300" spc="-1" strike="noStrike">
                <a:solidFill>
                  <a:srgbClr val="11488b"/>
                </a:solidFill>
                <a:latin typeface="Gill Sans MT"/>
              </a:rPr>
              <a:t>Referências Bibliográficas</a:t>
            </a: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ÖRNYEI, Z. Qualitative data collection. In: 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Research methods in Applied Linguistic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 quantitative, qualitative and mixed methodologies. Oxford: OUP, 2007. ch. 6, p. 124-162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300" spc="-1" strike="noStrike">
                <a:solidFill>
                  <a:srgbClr val="11488b"/>
                </a:solidFill>
                <a:latin typeface="Gill Sans MT"/>
              </a:rPr>
              <a:t>Entrevistas</a:t>
            </a: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xistem diferentes tipos de entrevistas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s extremamente estruturadas se assemelham aos questionários quantitativo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 entrevista qualitativa típica é one-to-one (face a face) e tem o objetivo de obter informações sobre o estilo de vida do entrevistado ou sua opnião / percepção sobre fenômenos descritos ou o objeto estudado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300" spc="-1" strike="noStrike">
                <a:solidFill>
                  <a:srgbClr val="11488b"/>
                </a:solidFill>
                <a:latin typeface="Gill Sans MT"/>
              </a:rPr>
              <a:t>Principais </a:t>
            </a:r>
            <a:r>
              <a:rPr b="0" lang="en-US" sz="4300" spc="-1" strike="noStrike">
                <a:solidFill>
                  <a:srgbClr val="11488b"/>
                </a:solidFill>
                <a:latin typeface="Gill Sans MT"/>
              </a:rPr>
              <a:t>tipos de entrevistas</a:t>
            </a: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 entrevista one-to-one pode ser dividida em diferentes tipos, de acordo com o grau de estrutura durante o processo (</a:t>
            </a:r>
            <a:r>
              <a:rPr b="1" lang="en-US" sz="2800" spc="-1" strike="noStrike">
                <a:solidFill>
                  <a:srgbClr val="376092"/>
                </a:solidFill>
                <a:latin typeface="Gill Sans MT"/>
              </a:rPr>
              <a:t>estruturadas, semiestruturadas e não estruturada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), e se existem sessões únicas ou múltiplas de entrevist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1488b"/>
                </a:solidFill>
                <a:latin typeface="Gill Sans MT"/>
              </a:rPr>
              <a:t>Sessões únicas ou múltiplas</a:t>
            </a: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Gill Sans MT"/>
              </a:rPr>
              <a:t>A entrevista qualitativa típica é um evento isolado com duração de cerca de 30-60 minuto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o entanto, Polkinghorne (2005) argumenta,  que entrevistas únicas, raramente, são capazes de produzir descrições completas e ricas, necessárias para a pesquisa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om base na obra de Seidman ele recomenda que os investigadores administrem uma sequência de três entrevistas com o mesmo participante para obter profundidade e amplitude suficiente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1488b"/>
                </a:solidFill>
                <a:latin typeface="Gill Sans MT"/>
              </a:rPr>
              <a:t>Sessões únicas ou múltiplas</a:t>
            </a: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Gill Sans MT"/>
              </a:rPr>
              <a:t>A primeira entrevista quebra o gelo e desenvolve a empatia com o entrevistado,  ao mesmo tempo que proporciona um rápido levantamento do que será investigado depois. a ser investigado depois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 intervalo entre a primeira e a segunda entrevista permite que o entrevistador prepare um roteiro de entrevista mais direcionado para a segunda sessão e também oferece ao entrevistado a possibilidade de pensar mais profundamente sobre a experiência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omo resultado, a segunda entrevista é mais focada do que o primeira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1488b"/>
                </a:solidFill>
                <a:latin typeface="Gill Sans MT"/>
              </a:rPr>
              <a:t>Sessões únicas ou múltiplas</a:t>
            </a: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nalmente, depois de ter analisado as transcrições das duas primeiras sessões, na terceira entrevista o pesquisador pode esclarecer quaisquer dúvidas pendente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eve-se notar que o formato de sessões múltiplas descrito aqui não é o mesmo utilizado em um estudo através de entrevista longitudinal porque o efeito das três sessões não é para documentar as alterações temporais mas para se chegar a uma descrição completa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1488b"/>
                </a:solidFill>
                <a:latin typeface="Gill Sans MT"/>
              </a:rPr>
              <a:t>As entrevistas estruturadas</a:t>
            </a: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447560"/>
            <a:ext cx="749952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este formato, o pesquisador segue um roteiro preestabelecido, </a:t>
            </a:r>
            <a:r>
              <a:rPr b="0" lang="pt-PT" sz="2800" spc="-1" strike="noStrike">
                <a:solidFill>
                  <a:srgbClr val="000000"/>
                </a:solidFill>
                <a:latin typeface="Gill Sans MT"/>
              </a:rPr>
              <a:t>dentro de um conjunto limitado de categorias de respostas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Gill Sans MT"/>
              </a:rPr>
              <a:t>As respostas são registadas de acordo com um esquema de codificação também preestabelecido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1488b"/>
                </a:solidFill>
                <a:latin typeface="Gill Sans MT"/>
              </a:rPr>
              <a:t>As entrevistas estruturadas</a:t>
            </a: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447560"/>
            <a:ext cx="749952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76092"/>
                </a:solidFill>
                <a:latin typeface="Gill Sans MT"/>
              </a:rPr>
              <a:t>VANTAGE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 facilidade de comparação das respostas dos participantes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092"/>
                </a:solidFill>
                <a:latin typeface="Gill Sans MT"/>
              </a:rPr>
              <a:t>DESVANTAGE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spostas e dados limitado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á pouco espaço para variação ou espontaneidade nas resposta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6T02:52:42Z</dcterms:created>
  <dc:creator>Fabricia</dc:creator>
  <dc:description/>
  <dc:language>en-US</dc:language>
  <cp:lastModifiedBy>una</cp:lastModifiedBy>
  <dcterms:modified xsi:type="dcterms:W3CDTF">2015-05-06T14:55:38Z</dcterms:modified>
  <cp:revision>6</cp:revision>
  <dc:subject/>
  <dc:title>ENTREVISTAS Tipos: estruturadas,  semiestruturadas e  não estruturadas</dc:title>
</cp:coreProperties>
</file>