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05BE-2E21-4A6A-B7D4-9F2EB68C8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090A-CBA4-4045-B1A7-BB1C5192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DA54-F685-4E3C-8CF4-E9FA0D430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3ACA-E85F-4F13-B11A-ACB14DC86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1A0A-22B8-414C-8F0B-09B97952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B73A-372C-4B5E-91FF-7263D9B1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F216-1906-45A4-A90F-1A529810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92BA-3D45-49D9-9D02-7B549962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FEFE-880E-497D-AAFE-46ACD3AA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CC07-5B99-46F7-A67D-BF9A1F14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08E1-8828-46BF-93ED-08FD1B7D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15E3-5C4F-4C3F-BC60-9A1A0E98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0287-F82A-4493-9818-75BBC144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2C16-C6B2-47B5-9E96-0566183A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1AB6-5D94-40FF-B051-033D0485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73A5-D7C5-4C4C-B856-487423F23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75D8-5162-47E5-862A-CE1D03148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493CE-72DF-4D11-813B-FE12B3B90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E739A-5496-45BD-B4DE-BBC0FA50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A03FA-09E9-41AE-9622-1A8FDC16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0BC80-69B4-4512-B922-6135FBCB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C383E-2B54-4894-93D3-31DBF85B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CE67-3BE8-4CAE-9793-B7A35E61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C90BE-2B02-4D1D-802A-F0F1680C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59A4C-A545-4DB6-83BE-386D1235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DF569-0080-4BC9-986D-7101D3DE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DDD6F-0A82-4985-9D33-08209654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EFC25-5DE4-413E-966E-AD0FDB6C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B4EF6-9FDD-4BB1-AB78-82F558FF3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4F684-8937-439A-AC02-011B7F990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6FFCF-3022-4242-A057-408917B61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5D619-3D2B-43A2-B971-9348622E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D8262-B700-4D29-9788-9C9631F8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90B5-699D-4144-AD02-75E1C230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91484-6A9A-409F-AE73-1DB6127F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924F9-C67D-49E7-B493-5B2520F5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ECA72-D560-4F01-BCBF-A16FD527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67DCA-6A81-4B77-A9B8-E14E1098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F5841-ED89-44D8-88AE-F8F6EB4A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F34A6-DC5A-4A0E-99AB-D4DFB478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D4144-58EA-43A7-BC7F-D7926B6B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6E0F9-15D8-4016-9652-A3895E7E9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9E815-032C-48E0-AD1F-024267A04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0483A-3230-49A7-9689-C7DD61019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718C-DEC2-4FA9-93CA-EBD27C5E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EF2F0-8D6D-4CF3-BB4A-1E42E35A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ECA14-5C98-4A4B-8FE2-E6A94FE6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E5B50-8868-453E-ABC9-4BFB97A5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3DD4E-A67E-4B8F-BCFE-1394D8EE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B94BF-054C-4402-A054-FF633D44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4C08C-1E4D-48F3-985C-7794B84B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76E90-6E8B-4F97-84C6-2ECAA20E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C43D6-863B-469E-B9F5-60CFBAF4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C4AA3-720D-43F0-AED0-F7414997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A2CBA-4BDB-4CFC-828F-1BA16F05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8963-2870-4811-A87A-E1F1EC22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71498-B929-4DD5-8962-208D29D20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A6030-436E-4B8D-AC77-92F49DAC3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4FE69-0B88-4221-82FE-92FFEAFE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96564-BDB1-415A-9AAD-DD9DF184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84CD9-9591-443E-AE75-D429FD49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65126-7BB9-4143-BA28-AC12F26E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509F1-64D0-4C48-8685-BC6A00A2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42C4E-4752-4093-B383-5741C761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FE773-AFD6-49BB-8FA3-C5F3F5B9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BA708-EEE7-4EF9-B227-AB98B5A7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A53D-46A6-4AF3-94A5-6BC29B58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586ED-5585-4A0D-BC39-EF99BFC7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845D6-3B1F-47AC-B2F7-6B8ADDD00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2C1E9-2F16-4094-A22A-C4F2E2848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CE837-57B8-42D8-BA57-9809B67AF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87832-6AE5-47AF-B3F8-6A27A6AF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022A6-A154-4743-8695-BB9C27B8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E49FA-9F8F-4581-A410-FD5E69D2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4B46A-D698-4B53-861B-552DFF12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C770F-9A4F-498C-A9BC-F3FA57EE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75029-BF76-43A5-8987-92C18C5C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37CE-698C-4CC2-BE6A-A4869EB5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D87F1-3D1D-4AE1-A963-D8816F08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47405-423F-4348-BFF8-4674C025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67E2A-A13F-47A5-B18C-56116C7D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0ECD5-B29E-4495-94A9-5B6A81905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0715A-F5B3-46CB-852E-56BAB179F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877F-C2D9-41FE-BD67-13CB4CF2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zz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dfdf9">
              <a:alpha val="33000"/>
            </a:srgbClr>
          </a:solidFill>
          <a:ln cap="rnd" w="3240">
            <a:solidFill>
              <a:srgbClr val="d1cd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Elipse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efbec"/>
            </a:solidFill>
            <a:miter/>
          </a:ln>
          <a:effectLst>
            <a:outerShdw dist="12600" dir="5400000" blurRad="0" rotWithShape="0">
              <a:srgbClr val="b1af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osca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Rosca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tângulo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47DC-F3FB-415C-B932-798621591C42}" type="slidenum"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tângulo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zz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dfdf9">
              <a:alpha val="33000"/>
            </a:srgbClr>
          </a:solidFill>
          <a:ln cap="rnd" w="3240">
            <a:solidFill>
              <a:srgbClr val="d1cd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ipse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efbec"/>
            </a:solidFill>
            <a:miter/>
          </a:ln>
          <a:effectLst>
            <a:outerShdw dist="12600" dir="5400000" blurRad="0" rotWithShape="0">
              <a:srgbClr val="b1af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osca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Rosca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tângulo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tângulo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Elipse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Elipse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Elipse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4471a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91AC-136B-4181-A0C1-D0FF3BDEDF68}" type="slidenum"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tângulo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tângulo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Elipse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Elipse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Elipse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4471a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0236-92D8-47C3-81B3-D8C342ECDD70}" type="slidenum"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CEAE-AA39-4990-A310-CC2D8CC5588E}" type="slidenum"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tângulo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tângulo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7677-3C0C-4BCA-868E-32BE3E810BD0}" type="slidenum"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1F90-62F8-4F44-B952-7CFC05923AE9}" type="slidenum"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tângulo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tângulo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uxograma: Processo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9e6d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uxograma: Processo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eece1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FF62-2D1C-4421-8B08-478714299C3F}" type="slidenum"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00080" y="2171520"/>
            <a:ext cx="8143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11488b"/>
                </a:solidFill>
                <a:latin typeface="Gill Sans MT"/>
              </a:rPr>
              <a:t>ENTREVISTAS</a:t>
            </a:r>
            <a:br>
              <a:rPr sz="3900"/>
            </a:br>
            <a:r>
              <a:rPr b="0" lang="pt-BR" sz="3900" spc="-1" strike="noStrike">
                <a:solidFill>
                  <a:srgbClr val="11488b"/>
                </a:solidFill>
                <a:latin typeface="Gill Sans MT"/>
              </a:rPr>
              <a:t>Tipos: estruturadas, </a:t>
            </a:r>
            <a:br>
              <a:rPr sz="3900"/>
            </a:br>
            <a:r>
              <a:rPr b="0" lang="pt-BR" sz="3900" spc="-1" strike="noStrike">
                <a:solidFill>
                  <a:srgbClr val="11488b"/>
                </a:solidFill>
                <a:latin typeface="Gill Sans MT"/>
              </a:rPr>
              <a:t>semiestruturadas e </a:t>
            </a:r>
            <a:br>
              <a:rPr sz="3900"/>
            </a:br>
            <a:r>
              <a:rPr b="0" lang="pt-BR" sz="3900" spc="-1" strike="noStrike">
                <a:solidFill>
                  <a:srgbClr val="11488b"/>
                </a:solidFill>
                <a:latin typeface="Gill Sans MT"/>
              </a:rPr>
              <a:t>não estruturadas</a:t>
            </a:r>
            <a:endParaRPr b="0" lang="en-US" sz="39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428720" y="5357520"/>
            <a:ext cx="4714920" cy="500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2554"/>
                </a:solidFill>
                <a:latin typeface="Gill Sans MT"/>
              </a:rPr>
              <a:t>Fabrícia dos Santos Figueiró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Subtítulo 2"/>
          <p:cNvSpPr/>
          <p:nvPr/>
        </p:nvSpPr>
        <p:spPr>
          <a:xfrm>
            <a:off x="1928880" y="357120"/>
            <a:ext cx="7000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595959"/>
                </a:solidFill>
                <a:latin typeface="Gill Sans MT"/>
                <a:ea typeface="Calibri"/>
              </a:rPr>
              <a:t>Centro Federal de Educação Tecnológica de Minas Ger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595959"/>
                </a:solidFill>
                <a:latin typeface="Gill Sans MT"/>
                <a:ea typeface="Calibri"/>
              </a:rPr>
              <a:t>Mestrado em Estudo de Linguag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595959"/>
                </a:solidFill>
                <a:latin typeface="Gill Sans MT"/>
                <a:ea typeface="Calibri"/>
              </a:rPr>
              <a:t>Disciplina: Metodologia da Pesqui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595959"/>
                </a:solidFill>
                <a:latin typeface="Gill Sans MT"/>
                <a:ea typeface="Calibri"/>
              </a:rPr>
              <a:t>Profa. Raquel Bambir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http://www.portal.fae.ufmg.br/simposionete/img/logo_cefet_color.png"/>
          <p:cNvPicPr/>
          <p:nvPr/>
        </p:nvPicPr>
        <p:blipFill>
          <a:blip r:embed="rId1"/>
          <a:stretch/>
        </p:blipFill>
        <p:spPr>
          <a:xfrm>
            <a:off x="1143000" y="357120"/>
            <a:ext cx="15192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As entrevistas estruturad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ntrevistas estruturadas são usadas em situações em que um questionário escrito seria adequado na teoria, mas, por algum motivo, o formato de escrita não é viáv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.: Baixo nível de alfabetização entre os participantes ou a necessidade de um controle mais rígido como em algumas pesquisas de mercado ou pesquisas de opiniã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Entrevistas não estruturad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ambém conhecida como entrevista etnográfica, a entrevista não estruturada não possui perguntas específicas ou respostas codificada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intenção é criar um ambiente descontraído em que o entrevistado se sinta a vontade para revelar mais do que ele revelaria em contextos formai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Entrevistas não estruturad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ão há um roteiro de entrevista preparado com antecedência, mas, geralmente o pesquisador pensa em algumas perguntas de abertura (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grand tou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 para provocar a história do entrevistad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urante a entrevista, o pesquisador pode fazer uma pergunta ocasional para esclarecimento e dar feedback para manter a entrevista em movimento, mas as interrupções devem ser mínima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Entrevistas não estruturad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ara que uma entrevista não estruturada seja bem sucedida, é indispensável que o entrevistador estabeleça um bom relacionamento com o entrevistad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ste tipo de entrevistas é mais apropriado quando a pesquisa pretende estudar fenômenos particulares ou quando algum relato histórico pessoal é relevante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Entrevistas semi-estruturad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m estudos linguísticos aplicados a maioria das entrevistas pertencem ao tipo semi-estruturad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 formato é aberto e embora não haja um roteiro e um conjunto de perguntas preelaboradas, o entrevistado é incentivado a falar sobre as questões levantadas, de forma exploratória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Entrevistas semi-estruturad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pic>
        <p:nvPicPr>
          <p:cNvPr id="349" name="Diagrama 2" descr=""/>
          <p:cNvPicPr/>
          <p:nvPr/>
        </p:nvPicPr>
        <p:blipFill>
          <a:blip r:embed="rId1"/>
          <a:stretch/>
        </p:blipFill>
        <p:spPr>
          <a:xfrm>
            <a:off x="1298520" y="2030400"/>
            <a:ext cx="805824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Entrevistas semi-estruturad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entrevista semi-estruturada é adequado para casos em que o pesquisador tem um bom panorama do objeto / fenômeno a ser estudado e é capaz de formular com antecedência perguntas gerais sobre o tema mas não quer utilizar categorias de respostas prontas que limitariam a profundidade de uma amplitude de história do entrevistad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rtanto, este formato necessita de um roteiro de entrevista que deve ser elaborado e pilotado com antecedência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1488b"/>
                </a:solidFill>
                <a:latin typeface="Gill Sans MT"/>
              </a:rPr>
              <a:t>Preparação para a entrevista e desenvolvimento do roteiro</a:t>
            </a:r>
            <a:endParaRPr b="0" lang="en-US" sz="39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773000"/>
            <a:ext cx="749952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pois que o plano de amostragem inicial foi finalizado e questões éticas (como o consentimento do entrevistado) forem resolvidas, o pesquisador precisa preparar um roteiro de entrevista detalhado que servirá como o principal instrumento de pesquisa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1488b"/>
                </a:solidFill>
                <a:latin typeface="Gill Sans MT"/>
              </a:rPr>
              <a:t>Preparação para a entrevista e desenvolvimento do roteiro</a:t>
            </a:r>
            <a:endParaRPr b="0" lang="en-US" sz="39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844280"/>
            <a:ext cx="749952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principal função do roteiro ou guia de entrevista é 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43840" indent="-498960">
              <a:spcBef>
                <a:spcPts val="550"/>
              </a:spcBef>
              <a:buClr>
                <a:srgbClr val="4f81bd"/>
              </a:buClr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arantir que todos os assuntos relevantes serão abordados e nenhuma informação importante será esquecida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43840" indent="-498960">
              <a:spcBef>
                <a:spcPts val="550"/>
              </a:spcBef>
              <a:buClr>
                <a:srgbClr val="4f81bd"/>
              </a:buClr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piciar uma elaboração adequada da pergunta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43840" indent="-498960">
              <a:spcBef>
                <a:spcPts val="550"/>
              </a:spcBef>
              <a:buClr>
                <a:srgbClr val="4f81bd"/>
              </a:buClr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ferecer uma lista de perguntas úteis para serem utilizadas, se necessário;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1488b"/>
                </a:solidFill>
                <a:latin typeface="Gill Sans MT"/>
              </a:rPr>
              <a:t>Preparação para a entrevista e desenvolvimento do roteiro</a:t>
            </a:r>
            <a:endParaRPr b="0" lang="en-US" sz="39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34960" y="1700280"/>
            <a:ext cx="74995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861120" indent="-509040">
              <a:spcBef>
                <a:spcPts val="550"/>
              </a:spcBef>
              <a:buClr>
                <a:srgbClr val="4f81bd"/>
              </a:buClr>
              <a:buFont typeface="Gill Sans MT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ferecer um modelo para iniciar a entrevista;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61120" indent="-509040">
              <a:spcBef>
                <a:spcPts val="550"/>
              </a:spcBef>
              <a:buClr>
                <a:srgbClr val="4f81bd"/>
              </a:buClr>
              <a:buFont typeface="Gill Sans MT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istar alguns comentários que devem ser considerad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361080" indent="-27972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de ser aconselhável combinar este guia com um “diário de entrevista”, deixando um espaço nele para registrar os detalhes da entrevista (Ex.: participante, cenário, duração), bem como para comentários e notas do entrevistador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11488b"/>
                </a:solidFill>
                <a:latin typeface="Gill Sans MT"/>
              </a:rPr>
              <a:t>Entrevist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100" spc="-1" strike="noStrike">
                <a:solidFill>
                  <a:srgbClr val="000000"/>
                </a:solidFill>
                <a:latin typeface="Gill Sans MT"/>
              </a:rPr>
              <a:t>A entrevista consiste numa interação entre o entrevistador e o entrevistado.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100" spc="-1" strike="noStrike">
                <a:solidFill>
                  <a:srgbClr val="000000"/>
                </a:solidFill>
                <a:latin typeface="Gill Sans MT"/>
              </a:rPr>
              <a:t>Por ser uma rotina de comunicação conhecida a entrevista funciona como um instrumento de pesquisa versátil e é um dos métodos mais utilizados nas pesquisas qualitativas.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11488b"/>
                </a:solidFill>
                <a:latin typeface="Gill Sans MT"/>
              </a:rPr>
              <a:t>Tipos de perguntas e tem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76092"/>
                </a:solidFill>
                <a:latin typeface="Gill Sans MT"/>
              </a:rPr>
              <a:t>As primeiras pergunta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stas são particularmente importantes em uma entrevista, não tanto do ponto de vista de conteúdo, mas sim porque elas definirão o tom da entrevista e criarão o clima inicial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esquisadores muitas vezes começam com perguntas pessoais ou factuais fáceis (por exemplo, sobre a família do entrevistado ou trabalho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qualidade das respostas subseqüentes dependerão, em grande medida, do clima de confiança que criado nesse período quebra-gelo inicial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11488b"/>
                </a:solidFill>
                <a:latin typeface="Gill Sans MT"/>
              </a:rPr>
              <a:t>Tipos de perguntas e tem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76092"/>
                </a:solidFill>
                <a:latin typeface="Gill Sans MT"/>
              </a:rPr>
              <a:t>Questões conteúdo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bre qualquer tema, é possível perguntar de acordo com seis diferentes aspectos sobre visão geral / experiência do participante em relação ao fenômeno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70120" indent="-51444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periências e comportamentos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70120" indent="-51444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piniões e valores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70120" indent="-51444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ntimentos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70120" indent="-51444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hecimento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70120" indent="-51444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formação sensorial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70120" indent="-51444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enário ou informações demográfica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11488b"/>
                </a:solidFill>
                <a:latin typeface="Gill Sans MT"/>
              </a:rPr>
              <a:t>Tipos de perguntas e tem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560"/>
            <a:ext cx="749952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76092"/>
                </a:solidFill>
                <a:latin typeface="Gill Sans MT"/>
              </a:rPr>
              <a:t>Sondas (probes)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Gill Sans MT"/>
              </a:rPr>
              <a:t>A natureza emergente de dados de entrevistas qualitativas pode ser reforçada através da aplicação de várias sondas que utilizam o que o entrevistado disse como ponto de partida para ir mais longe e para aumentar a riqueza e a profundidade das resposta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.: Você usou a palavra "liberdade" duas vezes - o que liberdade significa exatamente para você / o que você quis dizer com isso ...?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11488b"/>
                </a:solidFill>
                <a:latin typeface="Gill Sans MT"/>
              </a:rPr>
              <a:t>Tipos de perguntas e tem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Gill Sans MT"/>
              </a:rPr>
              <a:t>A pergunta de fechamento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ermite que o entrevistado tenha a palavra no final da entrevist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.: "Existe alguma coisa que você gostaria de acrescentar?" ou "O que eu deveria ter perguntado a você que eu não perguntei? '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11488b"/>
                </a:solidFill>
                <a:latin typeface="Gill Sans MT"/>
              </a:rPr>
              <a:t>Dicas finais: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uas regras particularmente importantes são que, devemos evita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52480" indent="-504000">
              <a:spcBef>
                <a:spcPts val="550"/>
              </a:spcBef>
              <a:buClr>
                <a:srgbClr val="4f81bd"/>
              </a:buClr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erguntas capciosas ("Foi frustrante, não foi ...?"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52480" indent="-504000">
              <a:spcBef>
                <a:spcPts val="550"/>
              </a:spcBef>
              <a:buClr>
                <a:srgbClr val="4f81bd"/>
              </a:buClr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erguntas carregadas, palavras ambíguas ou jargõe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m questões gerais, as perguntas devem ser curtas e relativamente simpl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ar palavras que fazem sentido para o entrevistado e refletem seu estilo de vida melhora a qualidade dos dados da entrevista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11488b"/>
                </a:solidFill>
                <a:latin typeface="Gill Sans MT"/>
              </a:rPr>
              <a:t>Referências Bibliográfic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ÖRNYEI, Z. Qualitative data collection. In: 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search methods in Applied Linguistic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quantitative, qualitative and mixed methodologies. Oxford: OUP, 2007. ch. 6, p. 124-162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11488b"/>
                </a:solidFill>
                <a:latin typeface="Gill Sans MT"/>
              </a:rPr>
              <a:t>Entrevist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istem diferentes tipos de entrevistas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 extremamente estruturadas se assemelham aos questionários quantitativ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entrevista qualitativa típica é one-to-one (face a face) e tem o objetivo de obter informações sobre o estilo de vida do entrevistado ou sua opnião / percepção sobre fenômenos descritos ou o objeto estudad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11488b"/>
                </a:solidFill>
                <a:latin typeface="Gill Sans MT"/>
              </a:rPr>
              <a:t>Principais </a:t>
            </a: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tipos de entrevist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entrevista one-to-one pode ser dividida em diferentes tipos, de acordo com o grau de estrutura durante o processo (</a:t>
            </a:r>
            <a:r>
              <a:rPr b="1" lang="en-US" sz="2800" spc="-1" strike="noStrike">
                <a:solidFill>
                  <a:srgbClr val="376092"/>
                </a:solidFill>
                <a:latin typeface="Gill Sans MT"/>
              </a:rPr>
              <a:t>estruturadas, semiestruturadas e não estruturada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, e se existem sessões únicas ou múltiplas de entrevist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Sessões únicas ou múltipl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Gill Sans MT"/>
              </a:rPr>
              <a:t>A entrevista qualitativa típica é um evento isolado com duração de cerca de 30-60 minuto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 entanto, Polkinghorne (2005) argumenta,  que entrevistas únicas, raramente, são capazes de produzir descrições completas e ricas, necessárias para a pesquisa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m base na obra de Seidman ele recomenda que os investigadores administrem uma sequência de três entrevistas com o mesmo participante para obter profundidade e amplitude suficient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Sessões únicas ou múltipl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Gill Sans MT"/>
              </a:rPr>
              <a:t>A primeira entrevista quebra o gelo e desenvolve a empatia com o entrevistado,  ao mesmo tempo que proporciona um rápido levantamento do que será investigado depois. a ser investigado depoi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 intervalo entre a primeira e a segunda entrevista permite que o entrevistador prepare um roteiro de entrevista mais direcionado para a segunda sessão e também oferece ao entrevistado a possibilidade de pensar mais profundamente sobre a experiência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mo resultado, a segunda entrevista é mais focada do que o primeira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Sessões únicas ou múltipl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nalmente, depois de ter analisado as transcrições das duas primeiras sessões, na terceira entrevista o pesquisador pode esclarecer quaisquer dúvidas pendent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ve-se notar que o formato de sessões múltiplas descrito aqui não é o mesmo utilizado em um estudo através de entrevista longitudinal porque o efeito das três sessões não é para documentar as alterações temporais mas para se chegar a uma descrição completa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As entrevistas estruturad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ste formato, o pesquisador segue um roteiro preestabelecido, </a:t>
            </a:r>
            <a:r>
              <a:rPr b="0" lang="pt-PT" sz="2800" spc="-1" strike="noStrike">
                <a:solidFill>
                  <a:srgbClr val="000000"/>
                </a:solidFill>
                <a:latin typeface="Gill Sans MT"/>
              </a:rPr>
              <a:t>dentro de um conjunto limitado de categorias de respostas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Gill Sans MT"/>
              </a:rPr>
              <a:t>As respostas são registadas de acordo com um esquema de codificação também preestabelecid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As entrevistas estruturad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76092"/>
                </a:solidFill>
                <a:latin typeface="Gill Sans MT"/>
              </a:rPr>
              <a:t>VANTAGE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facilidade de comparação das respostas dos participantes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Gill Sans MT"/>
              </a:rPr>
              <a:t>DESVANTAGE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spostas e dados limitad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á pouco espaço para variação ou espontaneidade nas resposta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6T02:52:42Z</dcterms:created>
  <dc:creator>Fabricia</dc:creator>
  <dc:description/>
  <dc:language>en-US</dc:language>
  <cp:lastModifiedBy>una</cp:lastModifiedBy>
  <dcterms:modified xsi:type="dcterms:W3CDTF">2015-05-06T14:55:38Z</dcterms:modified>
  <cp:revision>6</cp:revision>
  <dc:subject/>
  <dc:title>ENTREVISTAS Tipos: estruturadas,  semiestruturadas e  não estruturadas</dc:title>
</cp:coreProperties>
</file>